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6200000">
            <a:off x="-1020600" y="662904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"/>
              </a:rPr>
              <a:t>NOTES</a:t>
            </a:r>
            <a:endParaRPr b="1" lang="en-US" sz="2400" spc="1" strike="noStrike">
              <a:ln w="0">
                <a:noFill/>
              </a:ln>
              <a:solidFill>
                <a:srgbClr val="eaeaea"/>
              </a:solidFill>
              <a:latin typeface="Arial"/>
              <a:ea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Crane Training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LGIC GDK16 Engineering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891720" y="743040"/>
            <a:ext cx="5062680" cy="37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1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</a:rPr>
              <a:t>Issue 1 , 14/9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2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1E5B2F3-F44D-43DF-9C55-7DF7DF6F1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dt" idx="3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</a:rPr>
              <a:t>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f your system gives error tone when flexible button 10 ( LCR Program ) is pressed, then you do not have a MEMU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ll UK systems should have a MEMU install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flexible buttons available are 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   Station 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.   CO Lin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.   ISDN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.   System Featur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.   System Timer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.   Toll Tabl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.   Authorisation Code Tabl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.   Flexible Station Number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.   Flexible Button Program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.  LCR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1.  All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ss the Button relating to the section of programming required and the press [HOLD/SAVE] to ent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flexible buttons available are 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   Station 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.   CO Lin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.   ISDN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.   System Featur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.   System Timer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.   Toll Tabl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.   Authorisation Code Tabl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.   Flexible Station Number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.   Flexible Button Program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.  LCR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1.  All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ss the Button relating to the section of programming required and the press [HOLD/SAVE] to ent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flexible buttons available are 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   Station 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.   CO Lin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.   ISDN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.   System Featur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.   System Timer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.   Toll Table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.   Authorisation Code Tabl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.   Flexible Station Number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.   Flexible Button Program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.  LCR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1.  All Database Initialis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ss the Button relating to the section of programming required and the press [HOLD/SAVE] to ent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menus available are 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.   TEI type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2.   Calling Sub-Address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3.   Incoming Zero Insertion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4.   Outgoing Zero Insertion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5.   Outgoing Check Digit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6.   My Area Code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7.   My Nation Code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8.   COLP Table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9.   MSN Table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10.  DID Digit Conversion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= sub-men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= terminal men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ollowing PC Spec. is required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ease just refer to the requirement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08200" y="4989600"/>
            <a:ext cx="4157640" cy="31795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ilst the keyset is in programming m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t will only operate as an Admin termin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rmal keyset operation is not availabl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t will not be able to ring on incom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lls, and will be busy for internal call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f your system gives error tone when flexible button 10 ( LCR Program ) is pressed, then you do not have a MEMU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ll UK systems should have a MEMU install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f your system gives error tone when flexible button 10 ( LCR Program ) is pressed, then you do not have a MEMU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ll UK systems should have a MEMU install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798480" y="660240"/>
            <a:ext cx="5173560" cy="38800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f your system gives error tone when flexible button 10 ( LCR Program ) is pressed, then you do not have a MEMU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ll UK systems should have a MEMU install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3CB2-BFC7-4051-BC05-A45CF97762BE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3360" y="157176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KEYSET ADM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78360" y="996840"/>
            <a:ext cx="514440" cy="19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8480" y="800280"/>
            <a:ext cx="5740560" cy="5841720"/>
            <a:chOff x="1698480" y="800280"/>
            <a:chExt cx="5740560" cy="5841720"/>
          </a:xfrm>
        </p:grpSpPr>
        <p:sp>
          <p:nvSpPr>
            <p:cNvPr id="209" name=""/>
            <p:cNvSpPr/>
            <p:nvPr/>
          </p:nvSpPr>
          <p:spPr>
            <a:xfrm>
              <a:off x="3984480" y="1203480"/>
              <a:ext cx="514440" cy="190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1698480" y="800280"/>
            <a:ext cx="5740560" cy="5841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8480" y="800280"/>
                      <a:ext cx="57405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2" name=""/>
          <p:cNvSpPr/>
          <p:nvPr/>
        </p:nvSpPr>
        <p:spPr>
          <a:xfrm>
            <a:off x="82440" y="11592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Program Menu (4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96560" y="2855880"/>
            <a:ext cx="4836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Press Flex_1 to set Nation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change Nation Code, DIP4 should be set t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Press Flex_2 to set Site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ter Site Name from Keyp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5640" y="625320"/>
            <a:ext cx="38289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E-PROGRAMMED DATA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18080" y="1765440"/>
            <a:ext cx="2476440" cy="692640"/>
            <a:chOff x="3718080" y="1765440"/>
            <a:chExt cx="2476440" cy="692640"/>
          </a:xfrm>
        </p:grpSpPr>
        <p:sp>
          <p:nvSpPr>
            <p:cNvPr id="217" name=""/>
            <p:cNvSpPr/>
            <p:nvPr/>
          </p:nvSpPr>
          <p:spPr>
            <a:xfrm>
              <a:off x="3718080" y="176544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33560" y="177012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ATION PROGR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ESS FLEX_KEY (1-2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68760" y="1287360"/>
            <a:ext cx="32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tion Program ( PGM 10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705120" y="3400560"/>
            <a:ext cx="2804760" cy="692640"/>
            <a:chOff x="3705120" y="3400560"/>
            <a:chExt cx="2804760" cy="692640"/>
          </a:xfrm>
        </p:grpSpPr>
        <p:sp>
          <p:nvSpPr>
            <p:cNvPr id="221" name=""/>
            <p:cNvSpPr/>
            <p:nvPr/>
          </p:nvSpPr>
          <p:spPr>
            <a:xfrm>
              <a:off x="3705120" y="3400560"/>
              <a:ext cx="26186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6640" y="3405240"/>
              <a:ext cx="27932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ATION CO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OTECTED DATABASE(DIP4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53000" y="4924440"/>
            <a:ext cx="2476440" cy="692640"/>
            <a:chOff x="3753000" y="4924440"/>
            <a:chExt cx="2476440" cy="692640"/>
          </a:xfrm>
        </p:grpSpPr>
        <p:sp>
          <p:nvSpPr>
            <p:cNvPr id="224" name=""/>
            <p:cNvSpPr/>
            <p:nvPr/>
          </p:nvSpPr>
          <p:spPr>
            <a:xfrm>
              <a:off x="3753000" y="492444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68480" y="492912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ITE NA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HEAD OFF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76360" y="625320"/>
            <a:ext cx="412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DDITIONAL BOARD ASSIGN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65800" y="4022640"/>
            <a:ext cx="2476440" cy="692640"/>
            <a:chOff x="5365800" y="4022640"/>
            <a:chExt cx="2476440" cy="692640"/>
          </a:xfrm>
        </p:grpSpPr>
        <p:sp>
          <p:nvSpPr>
            <p:cNvPr id="228" name=""/>
            <p:cNvSpPr/>
            <p:nvPr/>
          </p:nvSpPr>
          <p:spPr>
            <a:xfrm>
              <a:off x="5365800" y="402264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81280" y="402732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LOT 06 (F1:ID F2:DEV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ID:UNKNOWN   DEVS: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9480" y="3462480"/>
            <a:ext cx="63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Enter 2 digits of Slot number you want to program. (e.g. slot 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11400" y="4500720"/>
            <a:ext cx="2441520" cy="431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103480" y="3995640"/>
            <a:ext cx="2467080" cy="424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495800" y="4587840"/>
            <a:ext cx="57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Y헤드라인M"/>
              </a:rPr>
              <a:t>BKS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00480" y="4044960"/>
            <a:ext cx="56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HY헤드라인M"/>
              </a:rPr>
              <a:t>EKS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44920" y="4735440"/>
            <a:ext cx="727200" cy="15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44920" y="4548240"/>
            <a:ext cx="727200" cy="15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8400" y="4210200"/>
            <a:ext cx="726840" cy="155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78400" y="4021200"/>
            <a:ext cx="726840" cy="156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68640" y="4730760"/>
            <a:ext cx="444600" cy="165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68640" y="4533840"/>
            <a:ext cx="444600" cy="165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10040" y="4210200"/>
            <a:ext cx="446040" cy="164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10040" y="4011480"/>
            <a:ext cx="446040" cy="1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16680" y="527364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MIU, AAF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3680" y="5272200"/>
            <a:ext cx="48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65600" y="4662360"/>
            <a:ext cx="33984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65600" y="4502160"/>
            <a:ext cx="33984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39920" y="4689360"/>
            <a:ext cx="33984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9920" y="4491000"/>
            <a:ext cx="33984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7800" y="4168800"/>
            <a:ext cx="33660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7800" y="3975120"/>
            <a:ext cx="33660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71960" y="4145040"/>
            <a:ext cx="33948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71960" y="3968640"/>
            <a:ext cx="339480" cy="276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5257800"/>
            <a:ext cx="3394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54400" y="5256360"/>
            <a:ext cx="403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4320720" y="4060440"/>
            <a:ext cx="1800" cy="10429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479400" y="4037040"/>
            <a:ext cx="1800" cy="11239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60560" y="4956120"/>
            <a:ext cx="8812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2. 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87480" y="5594400"/>
            <a:ext cx="12304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3. Oth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06680" y="4956120"/>
            <a:ext cx="123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1.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43480" y="2533680"/>
            <a:ext cx="2476440" cy="692640"/>
            <a:chOff x="5343480" y="2533680"/>
            <a:chExt cx="2476440" cy="692640"/>
          </a:xfrm>
        </p:grpSpPr>
        <p:sp>
          <p:nvSpPr>
            <p:cNvPr id="262" name=""/>
            <p:cNvSpPr/>
            <p:nvPr/>
          </p:nvSpPr>
          <p:spPr>
            <a:xfrm>
              <a:off x="5343480" y="253368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58960" y="253836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BOARD ASSIGN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ENTER SLOT NUMB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34760" y="2001960"/>
            <a:ext cx="718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Enter PGM 101 by pressing [Trans/Pgm] + ‘*’ + ‘#’ + ‘101’ at Admin Key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7560" y="1335240"/>
            <a:ext cx="71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ASSIGNMENT(PGM101)  &amp;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GICAL SLOT ASSIGN(PGM 10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960" y="1316160"/>
            <a:ext cx="64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Press Flex_1 and enter 2 digits Board ID code (e.g. 41 f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B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71760" y="1960560"/>
          <a:ext cx="4019400" cy="866520"/>
        </p:xfrm>
        <a:graphic>
          <a:graphicData uri="http://schemas.openxmlformats.org/drawingml/2006/table">
            <a:tbl>
              <a:tblPr/>
              <a:tblGrid>
                <a:gridCol w="844200"/>
                <a:gridCol w="588960"/>
                <a:gridCol w="730440"/>
                <a:gridCol w="588960"/>
                <a:gridCol w="646200"/>
                <a:gridCol w="62064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IB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IB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B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OB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1IB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I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271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F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5813280" y="1946160"/>
            <a:ext cx="2476800" cy="692640"/>
            <a:chOff x="5813280" y="1946160"/>
            <a:chExt cx="2476800" cy="692640"/>
          </a:xfrm>
        </p:grpSpPr>
        <p:sp>
          <p:nvSpPr>
            <p:cNvPr id="270" name=""/>
            <p:cNvSpPr/>
            <p:nvPr/>
          </p:nvSpPr>
          <p:spPr>
            <a:xfrm>
              <a:off x="5813280" y="1946160"/>
              <a:ext cx="24768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29120" y="195084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LOT 06 (F1:ID F2:DEV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ID:UNKNOWN   DEVS: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48800" y="3751200"/>
            <a:ext cx="74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Press Flex_2 and enter device number and press [SAVE]. (e.g. 20 for E1HB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819760" y="4229280"/>
            <a:ext cx="2476440" cy="692640"/>
            <a:chOff x="5819760" y="4229280"/>
            <a:chExt cx="2476440" cy="692640"/>
          </a:xfrm>
        </p:grpSpPr>
        <p:sp>
          <p:nvSpPr>
            <p:cNvPr id="274" name=""/>
            <p:cNvSpPr/>
            <p:nvPr/>
          </p:nvSpPr>
          <p:spPr>
            <a:xfrm>
              <a:off x="5819760" y="422928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35240" y="423396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LOT 10 (F1:ID F2:DEV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ID:DCOB           DEVS: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416560" y="1635120"/>
            <a:ext cx="2476440" cy="692640"/>
            <a:chOff x="5416560" y="1635120"/>
            <a:chExt cx="2476440" cy="692640"/>
          </a:xfrm>
        </p:grpSpPr>
        <p:sp>
          <p:nvSpPr>
            <p:cNvPr id="277" name=""/>
            <p:cNvSpPr/>
            <p:nvPr/>
          </p:nvSpPr>
          <p:spPr>
            <a:xfrm>
              <a:off x="5416560" y="163512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32040" y="163980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LOGICAL SLOT ASSIG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OL  STA  VMI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7880" y="1049400"/>
            <a:ext cx="718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Enter PGM 103 by pressing [Trans/Pgm] + ‘*’ + ‘#’ + ‘103’ at Admin Key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13320" y="3146400"/>
            <a:ext cx="2476440" cy="692640"/>
            <a:chOff x="5413320" y="3146400"/>
            <a:chExt cx="2476440" cy="692640"/>
          </a:xfrm>
        </p:grpSpPr>
        <p:sp>
          <p:nvSpPr>
            <p:cNvPr id="282" name=""/>
            <p:cNvSpPr/>
            <p:nvPr/>
          </p:nvSpPr>
          <p:spPr>
            <a:xfrm>
              <a:off x="5413320" y="314640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28800" y="315108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05  07   . .     . .     . .     . 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 .   . .   . .     . .     . .     . 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93000" y="2579760"/>
            <a:ext cx="48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Press Flex_1 for COL logical slot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410080" y="4619520"/>
            <a:ext cx="2476800" cy="692640"/>
            <a:chOff x="5410080" y="4619520"/>
            <a:chExt cx="2476800" cy="692640"/>
          </a:xfrm>
        </p:grpSpPr>
        <p:sp>
          <p:nvSpPr>
            <p:cNvPr id="286" name=""/>
            <p:cNvSpPr/>
            <p:nvPr/>
          </p:nvSpPr>
          <p:spPr>
            <a:xfrm>
              <a:off x="5410080" y="4619520"/>
              <a:ext cx="24768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25920" y="462420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05  07  06     . .     . .     . 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 .   . .   . .     . .     . .     . 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80400" y="4052880"/>
            <a:ext cx="69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. Enter new slot order including slot 06 and Press [SAVE]. (e.g. 05070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1280" y="5516640"/>
            <a:ext cx="293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Restart the system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53000" y="2855880"/>
            <a:ext cx="492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Enter Station range you want to select (e.g. 1001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Press Flex_1 to set Auto Speaker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Dial 1/0 and Press [Hold/Save] to sav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- If you exit without save, the data is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00" y="625320"/>
            <a:ext cx="3395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TION BASED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679920" y="1755720"/>
            <a:ext cx="2476440" cy="767520"/>
            <a:chOff x="3679920" y="1755720"/>
            <a:chExt cx="2476440" cy="767520"/>
          </a:xfrm>
        </p:grpSpPr>
        <p:sp>
          <p:nvSpPr>
            <p:cNvPr id="294" name=""/>
            <p:cNvSpPr/>
            <p:nvPr/>
          </p:nvSpPr>
          <p:spPr>
            <a:xfrm>
              <a:off x="3679920" y="1755720"/>
              <a:ext cx="2476440" cy="7542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95400" y="1758960"/>
              <a:ext cx="23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 AT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ENTER STA RANG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30960" y="1287360"/>
            <a:ext cx="322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ion Attribute 1 ( PGM 1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705120" y="3352680"/>
            <a:ext cx="2633400" cy="692640"/>
            <a:chOff x="3705120" y="3352680"/>
            <a:chExt cx="2633400" cy="692640"/>
          </a:xfrm>
        </p:grpSpPr>
        <p:sp>
          <p:nvSpPr>
            <p:cNvPr id="298" name=""/>
            <p:cNvSpPr/>
            <p:nvPr/>
          </p:nvSpPr>
          <p:spPr>
            <a:xfrm>
              <a:off x="3705120" y="3352680"/>
              <a:ext cx="24588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15920" y="3357360"/>
              <a:ext cx="26226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0-110  STATION ATT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ESS FLEX_KEY (01-24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714840" y="4714920"/>
            <a:ext cx="2419200" cy="692640"/>
            <a:chOff x="3714840" y="4714920"/>
            <a:chExt cx="2419200" cy="692640"/>
          </a:xfrm>
        </p:grpSpPr>
        <p:sp>
          <p:nvSpPr>
            <p:cNvPr id="301" name=""/>
            <p:cNvSpPr/>
            <p:nvPr/>
          </p:nvSpPr>
          <p:spPr>
            <a:xfrm>
              <a:off x="3714840" y="4714920"/>
              <a:ext cx="24192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29960" y="471960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0-110  AUTO SPK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1:ON/0:OFF) : 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3120" y="625320"/>
            <a:ext cx="3322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O LINE BASED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41840" y="2855880"/>
            <a:ext cx="629964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ter CO line range you want to select (e.g. 01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ress Flex_1 to set CO Lin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ter desired CO Group number with 2 digits and press [Hold/Save]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If you exit without save, the data is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79920" y="1755720"/>
            <a:ext cx="2476440" cy="767520"/>
            <a:chOff x="3679920" y="1755720"/>
            <a:chExt cx="2476440" cy="767520"/>
          </a:xfrm>
        </p:grpSpPr>
        <p:sp>
          <p:nvSpPr>
            <p:cNvPr id="307" name=""/>
            <p:cNvSpPr/>
            <p:nvPr/>
          </p:nvSpPr>
          <p:spPr>
            <a:xfrm>
              <a:off x="3679920" y="1755720"/>
              <a:ext cx="2476440" cy="7542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5400" y="1758960"/>
              <a:ext cx="23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O LINE AT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ENTER COL RANG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931680" y="1287360"/>
            <a:ext cx="33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 Line Attribute 1 ( PGM 14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05120" y="3352680"/>
            <a:ext cx="2633400" cy="692640"/>
            <a:chOff x="3705120" y="3352680"/>
            <a:chExt cx="2633400" cy="692640"/>
          </a:xfrm>
        </p:grpSpPr>
        <p:sp>
          <p:nvSpPr>
            <p:cNvPr id="311" name=""/>
            <p:cNvSpPr/>
            <p:nvPr/>
          </p:nvSpPr>
          <p:spPr>
            <a:xfrm>
              <a:off x="3705120" y="3352680"/>
              <a:ext cx="24588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15920" y="3357360"/>
              <a:ext cx="26226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- 03 CO LINE ATT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ESS FLEX_KEY (01- 1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714840" y="4714920"/>
            <a:ext cx="2419200" cy="692640"/>
            <a:chOff x="3714840" y="4714920"/>
            <a:chExt cx="2419200" cy="692640"/>
          </a:xfrm>
        </p:grpSpPr>
        <p:sp>
          <p:nvSpPr>
            <p:cNvPr id="314" name=""/>
            <p:cNvSpPr/>
            <p:nvPr/>
          </p:nvSpPr>
          <p:spPr>
            <a:xfrm>
              <a:off x="3714840" y="4714920"/>
              <a:ext cx="24192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9960" y="471960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01- 03  CO LINE GR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00 - 25) : 0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760" y="625320"/>
            <a:ext cx="3336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YSTEM BASED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41840" y="2855880"/>
            <a:ext cx="63255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ress Flex_4 to set DISA Retry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ter desired retry count number with 1 digits and press [Hold/Save]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If you exit without save, the data is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679920" y="1755720"/>
            <a:ext cx="2476440" cy="767520"/>
            <a:chOff x="3679920" y="1755720"/>
            <a:chExt cx="2476440" cy="767520"/>
          </a:xfrm>
        </p:grpSpPr>
        <p:sp>
          <p:nvSpPr>
            <p:cNvPr id="320" name=""/>
            <p:cNvSpPr/>
            <p:nvPr/>
          </p:nvSpPr>
          <p:spPr>
            <a:xfrm>
              <a:off x="3679920" y="1755720"/>
              <a:ext cx="2476440" cy="7542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5760" y="1758960"/>
              <a:ext cx="240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YSTEM AT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PRESS FLEX_KEY (01 – 20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930960" y="12873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 Attribute 1 ( PGM 16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657600" y="3257640"/>
            <a:ext cx="2419200" cy="692640"/>
            <a:chOff x="3657600" y="3257640"/>
            <a:chExt cx="2419200" cy="692640"/>
          </a:xfrm>
        </p:grpSpPr>
        <p:sp>
          <p:nvSpPr>
            <p:cNvPr id="324" name=""/>
            <p:cNvSpPr/>
            <p:nvPr/>
          </p:nvSpPr>
          <p:spPr>
            <a:xfrm>
              <a:off x="3657600" y="3257640"/>
              <a:ext cx="24192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2720" y="326232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SA RETRY C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(0 - 9) :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4600" y="1159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Ex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3840" y="625320"/>
            <a:ext cx="3429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TATION GROUP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1120" y="2617920"/>
            <a:ext cx="7130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ter Station Group number(62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ress FLEX_1 to select Station Group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fter set station group type, press FLEX_3 to assign me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ter station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If you want to enter stations one by one, enter station number after press Flex key(1~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scroll up/dn to see whole of the members if their are more than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679920" y="1755720"/>
            <a:ext cx="2476440" cy="767520"/>
            <a:chOff x="3679920" y="1755720"/>
            <a:chExt cx="2476440" cy="767520"/>
          </a:xfrm>
        </p:grpSpPr>
        <p:sp>
          <p:nvSpPr>
            <p:cNvPr id="330" name=""/>
            <p:cNvSpPr/>
            <p:nvPr/>
          </p:nvSpPr>
          <p:spPr>
            <a:xfrm>
              <a:off x="3679920" y="1755720"/>
              <a:ext cx="2476440" cy="7542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95400" y="1758960"/>
              <a:ext cx="23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TATION GRP ASSIG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ENTER HUNT NO(620-629)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930240" y="128736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ion Group Assign ( PGM 19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05120" y="2905200"/>
            <a:ext cx="2419560" cy="692640"/>
            <a:chOff x="3705120" y="2905200"/>
            <a:chExt cx="2419560" cy="692640"/>
          </a:xfrm>
        </p:grpSpPr>
        <p:sp>
          <p:nvSpPr>
            <p:cNvPr id="334" name=""/>
            <p:cNvSpPr/>
            <p:nvPr/>
          </p:nvSpPr>
          <p:spPr>
            <a:xfrm>
              <a:off x="3705120" y="2905200"/>
              <a:ext cx="241956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600" y="290988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TATION GRP 6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F1:TYPE F2:PKUP F3:M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711600" y="4016520"/>
            <a:ext cx="2419200" cy="692640"/>
            <a:chOff x="3711600" y="4016520"/>
            <a:chExt cx="2419200" cy="692640"/>
          </a:xfrm>
        </p:grpSpPr>
        <p:sp>
          <p:nvSpPr>
            <p:cNvPr id="337" name=""/>
            <p:cNvSpPr/>
            <p:nvPr/>
          </p:nvSpPr>
          <p:spPr>
            <a:xfrm>
              <a:off x="3711600" y="4016520"/>
              <a:ext cx="241920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6720" y="402120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TATION GRP 6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OT ASSIGNED (0-6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708360" y="5108400"/>
            <a:ext cx="2441160" cy="692640"/>
            <a:chOff x="3708360" y="5108400"/>
            <a:chExt cx="2441160" cy="692640"/>
          </a:xfrm>
        </p:grpSpPr>
        <p:sp>
          <p:nvSpPr>
            <p:cNvPr id="340" name=""/>
            <p:cNvSpPr/>
            <p:nvPr/>
          </p:nvSpPr>
          <p:spPr>
            <a:xfrm>
              <a:off x="3708360" y="5108400"/>
              <a:ext cx="242028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28520" y="5113080"/>
              <a:ext cx="24210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IRCULAR GRP 6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 . . .     . . . .      . . . .      . . . .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82440" y="11592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Practice Exerc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77800" y="996840"/>
            <a:ext cx="8122680" cy="4614120"/>
            <a:chOff x="577800" y="996840"/>
            <a:chExt cx="8122680" cy="4614120"/>
          </a:xfrm>
        </p:grpSpPr>
        <p:sp>
          <p:nvSpPr>
            <p:cNvPr id="344" name=""/>
            <p:cNvSpPr/>
            <p:nvPr/>
          </p:nvSpPr>
          <p:spPr>
            <a:xfrm>
              <a:off x="3845880" y="2805120"/>
              <a:ext cx="485460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ert boards and un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t Na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itialize system as Nation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81200" y="2022480"/>
              <a:ext cx="2845800" cy="3588480"/>
              <a:chOff x="781200" y="2022480"/>
              <a:chExt cx="2845800" cy="3588480"/>
            </a:xfrm>
          </p:grpSpPr>
          <p:sp>
            <p:nvSpPr>
              <p:cNvPr id="346" name=""/>
              <p:cNvSpPr/>
              <p:nvPr/>
            </p:nvSpPr>
            <p:spPr>
              <a:xfrm>
                <a:off x="887760" y="3126600"/>
                <a:ext cx="91440" cy="99360"/>
              </a:xfrm>
              <a:custGeom>
                <a:avLst/>
                <a:gdLst/>
                <a:ahLst/>
                <a:rect l="l" t="t" r="r" b="b"/>
                <a:pathLst>
                  <a:path w="82" h="45">
                    <a:moveTo>
                      <a:pt x="53" y="45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82" y="16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b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55440" y="2979360"/>
                <a:ext cx="88920" cy="921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57" y="42"/>
                    </a:moveTo>
                    <a:lnTo>
                      <a:pt x="0" y="31"/>
                    </a:lnTo>
                    <a:lnTo>
                      <a:pt x="21" y="0"/>
                    </a:lnTo>
                    <a:lnTo>
                      <a:pt x="78" y="12"/>
                    </a:lnTo>
                    <a:lnTo>
                      <a:pt x="57" y="42"/>
                    </a:lnTo>
                    <a:close/>
                  </a:path>
                </a:pathLst>
              </a:custGeom>
              <a:solidFill>
                <a:srgbClr val="b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25400" y="2833560"/>
                <a:ext cx="745560" cy="914760"/>
              </a:xfrm>
              <a:custGeom>
                <a:avLst/>
                <a:gdLst/>
                <a:ahLst/>
                <a:rect l="l" t="t" r="r" b="b"/>
                <a:pathLst>
                  <a:path w="668" h="415">
                    <a:moveTo>
                      <a:pt x="0" y="22"/>
                    </a:moveTo>
                    <a:lnTo>
                      <a:pt x="2" y="22"/>
                    </a:lnTo>
                    <a:lnTo>
                      <a:pt x="8" y="21"/>
                    </a:lnTo>
                    <a:lnTo>
                      <a:pt x="16" y="20"/>
                    </a:lnTo>
                    <a:lnTo>
                      <a:pt x="30" y="19"/>
                    </a:lnTo>
                    <a:lnTo>
                      <a:pt x="43" y="17"/>
                    </a:lnTo>
                    <a:lnTo>
                      <a:pt x="61" y="15"/>
                    </a:lnTo>
                    <a:lnTo>
                      <a:pt x="83" y="13"/>
                    </a:lnTo>
                    <a:lnTo>
                      <a:pt x="106" y="11"/>
                    </a:lnTo>
                    <a:lnTo>
                      <a:pt x="132" y="10"/>
                    </a:lnTo>
                    <a:lnTo>
                      <a:pt x="159" y="7"/>
                    </a:lnTo>
                    <a:lnTo>
                      <a:pt x="189" y="5"/>
                    </a:lnTo>
                    <a:lnTo>
                      <a:pt x="220" y="3"/>
                    </a:lnTo>
                    <a:lnTo>
                      <a:pt x="252" y="2"/>
                    </a:lnTo>
                    <a:lnTo>
                      <a:pt x="287" y="1"/>
                    </a:lnTo>
                    <a:lnTo>
                      <a:pt x="322" y="0"/>
                    </a:lnTo>
                    <a:lnTo>
                      <a:pt x="358" y="0"/>
                    </a:lnTo>
                    <a:lnTo>
                      <a:pt x="427" y="1"/>
                    </a:lnTo>
                    <a:lnTo>
                      <a:pt x="487" y="2"/>
                    </a:lnTo>
                    <a:lnTo>
                      <a:pt x="541" y="4"/>
                    </a:lnTo>
                    <a:lnTo>
                      <a:pt x="586" y="6"/>
                    </a:lnTo>
                    <a:lnTo>
                      <a:pt x="621" y="9"/>
                    </a:lnTo>
                    <a:lnTo>
                      <a:pt x="647" y="11"/>
                    </a:lnTo>
                    <a:lnTo>
                      <a:pt x="662" y="12"/>
                    </a:lnTo>
                    <a:lnTo>
                      <a:pt x="668" y="13"/>
                    </a:lnTo>
                    <a:lnTo>
                      <a:pt x="529" y="405"/>
                    </a:lnTo>
                    <a:lnTo>
                      <a:pt x="344" y="41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6560" y="5531760"/>
                <a:ext cx="162360" cy="7920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145" y="0"/>
                    </a:moveTo>
                    <a:lnTo>
                      <a:pt x="75" y="8"/>
                    </a:lnTo>
                    <a:lnTo>
                      <a:pt x="0" y="36"/>
                    </a:lnTo>
                    <a:lnTo>
                      <a:pt x="88" y="36"/>
                    </a:lnTo>
                    <a:lnTo>
                      <a:pt x="110" y="30"/>
                    </a:lnTo>
                    <a:lnTo>
                      <a:pt x="141" y="29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320200" y="5437440"/>
                <a:ext cx="160560" cy="81360"/>
              </a:xfrm>
              <a:custGeom>
                <a:avLst/>
                <a:gdLst/>
                <a:ahLst/>
                <a:rect l="l" t="t" r="r" b="b"/>
                <a:pathLst>
                  <a:path w="146" h="37">
                    <a:moveTo>
                      <a:pt x="0" y="0"/>
                    </a:moveTo>
                    <a:lnTo>
                      <a:pt x="71" y="9"/>
                    </a:lnTo>
                    <a:lnTo>
                      <a:pt x="146" y="37"/>
                    </a:lnTo>
                    <a:lnTo>
                      <a:pt x="57" y="36"/>
                    </a:lnTo>
                    <a:lnTo>
                      <a:pt x="35" y="31"/>
                    </a:lnTo>
                    <a:lnTo>
                      <a:pt x="4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50240" y="2785320"/>
                <a:ext cx="176760" cy="72360"/>
              </a:xfrm>
              <a:custGeom>
                <a:avLst/>
                <a:gdLst/>
                <a:ahLst/>
                <a:rect l="l" t="t" r="r" b="b"/>
                <a:pathLst>
                  <a:path w="159" h="33">
                    <a:moveTo>
                      <a:pt x="0" y="0"/>
                    </a:moveTo>
                    <a:lnTo>
                      <a:pt x="0" y="33"/>
                    </a:lnTo>
                    <a:lnTo>
                      <a:pt x="63" y="22"/>
                    </a:lnTo>
                    <a:lnTo>
                      <a:pt x="67" y="24"/>
                    </a:lnTo>
                    <a:lnTo>
                      <a:pt x="79" y="27"/>
                    </a:lnTo>
                    <a:lnTo>
                      <a:pt x="91" y="31"/>
                    </a:lnTo>
                    <a:lnTo>
                      <a:pt x="101" y="32"/>
                    </a:lnTo>
                    <a:lnTo>
                      <a:pt x="106" y="28"/>
                    </a:lnTo>
                    <a:lnTo>
                      <a:pt x="112" y="25"/>
                    </a:lnTo>
                    <a:lnTo>
                      <a:pt x="116" y="21"/>
                    </a:lnTo>
                    <a:lnTo>
                      <a:pt x="118" y="20"/>
                    </a:lnTo>
                    <a:lnTo>
                      <a:pt x="120" y="13"/>
                    </a:lnTo>
                    <a:lnTo>
                      <a:pt x="159" y="13"/>
                    </a:lnTo>
                    <a:lnTo>
                      <a:pt x="118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084320" y="3799080"/>
                <a:ext cx="132120" cy="18072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47" y="0"/>
                    </a:moveTo>
                    <a:lnTo>
                      <a:pt x="0" y="16"/>
                    </a:lnTo>
                    <a:lnTo>
                      <a:pt x="37" y="29"/>
                    </a:lnTo>
                    <a:lnTo>
                      <a:pt x="35" y="31"/>
                    </a:lnTo>
                    <a:lnTo>
                      <a:pt x="33" y="38"/>
                    </a:lnTo>
                    <a:lnTo>
                      <a:pt x="33" y="44"/>
                    </a:lnTo>
                    <a:lnTo>
                      <a:pt x="35" y="48"/>
                    </a:lnTo>
                    <a:lnTo>
                      <a:pt x="37" y="50"/>
                    </a:lnTo>
                    <a:lnTo>
                      <a:pt x="39" y="52"/>
                    </a:lnTo>
                    <a:lnTo>
                      <a:pt x="41" y="53"/>
                    </a:lnTo>
                    <a:lnTo>
                      <a:pt x="41" y="53"/>
                    </a:lnTo>
                    <a:lnTo>
                      <a:pt x="43" y="77"/>
                    </a:lnTo>
                    <a:lnTo>
                      <a:pt x="59" y="56"/>
                    </a:lnTo>
                    <a:lnTo>
                      <a:pt x="76" y="82"/>
                    </a:lnTo>
                    <a:lnTo>
                      <a:pt x="78" y="57"/>
                    </a:lnTo>
                    <a:lnTo>
                      <a:pt x="104" y="81"/>
                    </a:lnTo>
                    <a:lnTo>
                      <a:pt x="90" y="50"/>
                    </a:lnTo>
                    <a:lnTo>
                      <a:pt x="116" y="67"/>
                    </a:lnTo>
                    <a:lnTo>
                      <a:pt x="104" y="45"/>
                    </a:lnTo>
                    <a:lnTo>
                      <a:pt x="94" y="35"/>
                    </a:lnTo>
                    <a:lnTo>
                      <a:pt x="118" y="35"/>
                    </a:lnTo>
                    <a:lnTo>
                      <a:pt x="80" y="25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1200" y="2789640"/>
                <a:ext cx="2633400" cy="2729160"/>
              </a:xfrm>
              <a:custGeom>
                <a:avLst/>
                <a:gdLst/>
                <a:ahLst/>
                <a:rect l="l" t="t" r="r" b="b"/>
                <a:pathLst>
                  <a:path w="2359" h="1238">
                    <a:moveTo>
                      <a:pt x="2359" y="30"/>
                    </a:moveTo>
                    <a:lnTo>
                      <a:pt x="2359" y="0"/>
                    </a:lnTo>
                    <a:lnTo>
                      <a:pt x="1392" y="14"/>
                    </a:lnTo>
                    <a:lnTo>
                      <a:pt x="1390" y="14"/>
                    </a:lnTo>
                    <a:lnTo>
                      <a:pt x="1388" y="14"/>
                    </a:lnTo>
                    <a:lnTo>
                      <a:pt x="1384" y="14"/>
                    </a:lnTo>
                    <a:lnTo>
                      <a:pt x="1382" y="14"/>
                    </a:lnTo>
                    <a:lnTo>
                      <a:pt x="1243" y="379"/>
                    </a:lnTo>
                    <a:lnTo>
                      <a:pt x="1132" y="38"/>
                    </a:lnTo>
                    <a:lnTo>
                      <a:pt x="1115" y="410"/>
                    </a:lnTo>
                    <a:lnTo>
                      <a:pt x="800" y="33"/>
                    </a:lnTo>
                    <a:lnTo>
                      <a:pt x="781" y="35"/>
                    </a:lnTo>
                    <a:lnTo>
                      <a:pt x="761" y="38"/>
                    </a:lnTo>
                    <a:lnTo>
                      <a:pt x="741" y="40"/>
                    </a:lnTo>
                    <a:lnTo>
                      <a:pt x="724" y="42"/>
                    </a:lnTo>
                    <a:lnTo>
                      <a:pt x="706" y="45"/>
                    </a:lnTo>
                    <a:lnTo>
                      <a:pt x="688" y="47"/>
                    </a:lnTo>
                    <a:lnTo>
                      <a:pt x="671" y="51"/>
                    </a:lnTo>
                    <a:lnTo>
                      <a:pt x="653" y="53"/>
                    </a:lnTo>
                    <a:lnTo>
                      <a:pt x="618" y="53"/>
                    </a:lnTo>
                    <a:lnTo>
                      <a:pt x="580" y="54"/>
                    </a:lnTo>
                    <a:lnTo>
                      <a:pt x="541" y="55"/>
                    </a:lnTo>
                    <a:lnTo>
                      <a:pt x="500" y="57"/>
                    </a:lnTo>
                    <a:lnTo>
                      <a:pt x="456" y="59"/>
                    </a:lnTo>
                    <a:lnTo>
                      <a:pt x="413" y="61"/>
                    </a:lnTo>
                    <a:lnTo>
                      <a:pt x="370" y="64"/>
                    </a:lnTo>
                    <a:lnTo>
                      <a:pt x="327" y="68"/>
                    </a:lnTo>
                    <a:lnTo>
                      <a:pt x="285" y="74"/>
                    </a:lnTo>
                    <a:lnTo>
                      <a:pt x="244" y="80"/>
                    </a:lnTo>
                    <a:lnTo>
                      <a:pt x="205" y="87"/>
                    </a:lnTo>
                    <a:lnTo>
                      <a:pt x="167" y="95"/>
                    </a:lnTo>
                    <a:lnTo>
                      <a:pt x="132" y="104"/>
                    </a:lnTo>
                    <a:lnTo>
                      <a:pt x="101" y="115"/>
                    </a:lnTo>
                    <a:lnTo>
                      <a:pt x="73" y="126"/>
                    </a:lnTo>
                    <a:lnTo>
                      <a:pt x="48" y="139"/>
                    </a:lnTo>
                    <a:lnTo>
                      <a:pt x="20" y="160"/>
                    </a:lnTo>
                    <a:lnTo>
                      <a:pt x="6" y="183"/>
                    </a:lnTo>
                    <a:lnTo>
                      <a:pt x="0" y="208"/>
                    </a:lnTo>
                    <a:lnTo>
                      <a:pt x="4" y="234"/>
                    </a:lnTo>
                    <a:lnTo>
                      <a:pt x="16" y="261"/>
                    </a:lnTo>
                    <a:lnTo>
                      <a:pt x="32" y="288"/>
                    </a:lnTo>
                    <a:lnTo>
                      <a:pt x="55" y="314"/>
                    </a:lnTo>
                    <a:lnTo>
                      <a:pt x="81" y="340"/>
                    </a:lnTo>
                    <a:lnTo>
                      <a:pt x="108" y="364"/>
                    </a:lnTo>
                    <a:lnTo>
                      <a:pt x="136" y="388"/>
                    </a:lnTo>
                    <a:lnTo>
                      <a:pt x="164" y="409"/>
                    </a:lnTo>
                    <a:lnTo>
                      <a:pt x="191" y="426"/>
                    </a:lnTo>
                    <a:lnTo>
                      <a:pt x="213" y="441"/>
                    </a:lnTo>
                    <a:lnTo>
                      <a:pt x="230" y="453"/>
                    </a:lnTo>
                    <a:lnTo>
                      <a:pt x="242" y="460"/>
                    </a:lnTo>
                    <a:lnTo>
                      <a:pt x="246" y="462"/>
                    </a:lnTo>
                    <a:lnTo>
                      <a:pt x="307" y="447"/>
                    </a:lnTo>
                    <a:lnTo>
                      <a:pt x="299" y="440"/>
                    </a:lnTo>
                    <a:lnTo>
                      <a:pt x="283" y="420"/>
                    </a:lnTo>
                    <a:lnTo>
                      <a:pt x="260" y="391"/>
                    </a:lnTo>
                    <a:lnTo>
                      <a:pt x="240" y="356"/>
                    </a:lnTo>
                    <a:lnTo>
                      <a:pt x="224" y="320"/>
                    </a:lnTo>
                    <a:lnTo>
                      <a:pt x="222" y="287"/>
                    </a:lnTo>
                    <a:lnTo>
                      <a:pt x="240" y="258"/>
                    </a:lnTo>
                    <a:lnTo>
                      <a:pt x="279" y="241"/>
                    </a:lnTo>
                    <a:lnTo>
                      <a:pt x="301" y="236"/>
                    </a:lnTo>
                    <a:lnTo>
                      <a:pt x="325" y="233"/>
                    </a:lnTo>
                    <a:lnTo>
                      <a:pt x="350" y="231"/>
                    </a:lnTo>
                    <a:lnTo>
                      <a:pt x="376" y="229"/>
                    </a:lnTo>
                    <a:lnTo>
                      <a:pt x="403" y="229"/>
                    </a:lnTo>
                    <a:lnTo>
                      <a:pt x="433" y="229"/>
                    </a:lnTo>
                    <a:lnTo>
                      <a:pt x="460" y="229"/>
                    </a:lnTo>
                    <a:lnTo>
                      <a:pt x="490" y="230"/>
                    </a:lnTo>
                    <a:lnTo>
                      <a:pt x="647" y="695"/>
                    </a:lnTo>
                    <a:lnTo>
                      <a:pt x="498" y="809"/>
                    </a:lnTo>
                    <a:lnTo>
                      <a:pt x="500" y="809"/>
                    </a:lnTo>
                    <a:lnTo>
                      <a:pt x="506" y="810"/>
                    </a:lnTo>
                    <a:lnTo>
                      <a:pt x="517" y="811"/>
                    </a:lnTo>
                    <a:lnTo>
                      <a:pt x="531" y="812"/>
                    </a:lnTo>
                    <a:lnTo>
                      <a:pt x="551" y="814"/>
                    </a:lnTo>
                    <a:lnTo>
                      <a:pt x="574" y="816"/>
                    </a:lnTo>
                    <a:lnTo>
                      <a:pt x="602" y="818"/>
                    </a:lnTo>
                    <a:lnTo>
                      <a:pt x="633" y="820"/>
                    </a:lnTo>
                    <a:lnTo>
                      <a:pt x="619" y="847"/>
                    </a:lnTo>
                    <a:lnTo>
                      <a:pt x="604" y="880"/>
                    </a:lnTo>
                    <a:lnTo>
                      <a:pt x="592" y="916"/>
                    </a:lnTo>
                    <a:lnTo>
                      <a:pt x="582" y="952"/>
                    </a:lnTo>
                    <a:lnTo>
                      <a:pt x="578" y="990"/>
                    </a:lnTo>
                    <a:lnTo>
                      <a:pt x="580" y="1027"/>
                    </a:lnTo>
                    <a:lnTo>
                      <a:pt x="592" y="1062"/>
                    </a:lnTo>
                    <a:lnTo>
                      <a:pt x="614" y="1093"/>
                    </a:lnTo>
                    <a:lnTo>
                      <a:pt x="653" y="1131"/>
                    </a:lnTo>
                    <a:lnTo>
                      <a:pt x="692" y="1161"/>
                    </a:lnTo>
                    <a:lnTo>
                      <a:pt x="732" y="1187"/>
                    </a:lnTo>
                    <a:lnTo>
                      <a:pt x="769" y="1207"/>
                    </a:lnTo>
                    <a:lnTo>
                      <a:pt x="798" y="1221"/>
                    </a:lnTo>
                    <a:lnTo>
                      <a:pt x="824" y="1231"/>
                    </a:lnTo>
                    <a:lnTo>
                      <a:pt x="840" y="1236"/>
                    </a:lnTo>
                    <a:lnTo>
                      <a:pt x="846" y="1238"/>
                    </a:lnTo>
                    <a:lnTo>
                      <a:pt x="893" y="1232"/>
                    </a:lnTo>
                    <a:lnTo>
                      <a:pt x="889" y="1226"/>
                    </a:lnTo>
                    <a:lnTo>
                      <a:pt x="877" y="1211"/>
                    </a:lnTo>
                    <a:lnTo>
                      <a:pt x="863" y="1187"/>
                    </a:lnTo>
                    <a:lnTo>
                      <a:pt x="847" y="1157"/>
                    </a:lnTo>
                    <a:lnTo>
                      <a:pt x="834" y="1123"/>
                    </a:lnTo>
                    <a:lnTo>
                      <a:pt x="824" y="1085"/>
                    </a:lnTo>
                    <a:lnTo>
                      <a:pt x="822" y="1047"/>
                    </a:lnTo>
                    <a:lnTo>
                      <a:pt x="832" y="1009"/>
                    </a:lnTo>
                    <a:lnTo>
                      <a:pt x="846" y="987"/>
                    </a:lnTo>
                    <a:lnTo>
                      <a:pt x="865" y="964"/>
                    </a:lnTo>
                    <a:lnTo>
                      <a:pt x="891" y="940"/>
                    </a:lnTo>
                    <a:lnTo>
                      <a:pt x="920" y="917"/>
                    </a:lnTo>
                    <a:lnTo>
                      <a:pt x="952" y="895"/>
                    </a:lnTo>
                    <a:lnTo>
                      <a:pt x="985" y="873"/>
                    </a:lnTo>
                    <a:lnTo>
                      <a:pt x="1018" y="853"/>
                    </a:lnTo>
                    <a:lnTo>
                      <a:pt x="1052" y="834"/>
                    </a:lnTo>
                    <a:lnTo>
                      <a:pt x="1079" y="833"/>
                    </a:lnTo>
                    <a:lnTo>
                      <a:pt x="1107" y="832"/>
                    </a:lnTo>
                    <a:lnTo>
                      <a:pt x="1134" y="831"/>
                    </a:lnTo>
                    <a:lnTo>
                      <a:pt x="1162" y="829"/>
                    </a:lnTo>
                    <a:lnTo>
                      <a:pt x="1189" y="826"/>
                    </a:lnTo>
                    <a:lnTo>
                      <a:pt x="1217" y="823"/>
                    </a:lnTo>
                    <a:lnTo>
                      <a:pt x="1244" y="820"/>
                    </a:lnTo>
                    <a:lnTo>
                      <a:pt x="1272" y="817"/>
                    </a:lnTo>
                    <a:lnTo>
                      <a:pt x="1300" y="834"/>
                    </a:lnTo>
                    <a:lnTo>
                      <a:pt x="1327" y="852"/>
                    </a:lnTo>
                    <a:lnTo>
                      <a:pt x="1353" y="869"/>
                    </a:lnTo>
                    <a:lnTo>
                      <a:pt x="1376" y="888"/>
                    </a:lnTo>
                    <a:lnTo>
                      <a:pt x="1398" y="907"/>
                    </a:lnTo>
                    <a:lnTo>
                      <a:pt x="1415" y="925"/>
                    </a:lnTo>
                    <a:lnTo>
                      <a:pt x="1429" y="944"/>
                    </a:lnTo>
                    <a:lnTo>
                      <a:pt x="1439" y="962"/>
                    </a:lnTo>
                    <a:lnTo>
                      <a:pt x="1449" y="1000"/>
                    </a:lnTo>
                    <a:lnTo>
                      <a:pt x="1447" y="1037"/>
                    </a:lnTo>
                    <a:lnTo>
                      <a:pt x="1437" y="1075"/>
                    </a:lnTo>
                    <a:lnTo>
                      <a:pt x="1423" y="1109"/>
                    </a:lnTo>
                    <a:lnTo>
                      <a:pt x="1408" y="1139"/>
                    </a:lnTo>
                    <a:lnTo>
                      <a:pt x="1394" y="1162"/>
                    </a:lnTo>
                    <a:lnTo>
                      <a:pt x="1382" y="1178"/>
                    </a:lnTo>
                    <a:lnTo>
                      <a:pt x="1378" y="1183"/>
                    </a:lnTo>
                    <a:lnTo>
                      <a:pt x="1425" y="1191"/>
                    </a:lnTo>
                    <a:lnTo>
                      <a:pt x="1431" y="1189"/>
                    </a:lnTo>
                    <a:lnTo>
                      <a:pt x="1447" y="1183"/>
                    </a:lnTo>
                    <a:lnTo>
                      <a:pt x="1472" y="1174"/>
                    </a:lnTo>
                    <a:lnTo>
                      <a:pt x="1504" y="1159"/>
                    </a:lnTo>
                    <a:lnTo>
                      <a:pt x="1539" y="1139"/>
                    </a:lnTo>
                    <a:lnTo>
                      <a:pt x="1579" y="1114"/>
                    </a:lnTo>
                    <a:lnTo>
                      <a:pt x="1618" y="1083"/>
                    </a:lnTo>
                    <a:lnTo>
                      <a:pt x="1657" y="1045"/>
                    </a:lnTo>
                    <a:lnTo>
                      <a:pt x="1681" y="1010"/>
                    </a:lnTo>
                    <a:lnTo>
                      <a:pt x="1693" y="972"/>
                    </a:lnTo>
                    <a:lnTo>
                      <a:pt x="1693" y="931"/>
                    </a:lnTo>
                    <a:lnTo>
                      <a:pt x="1687" y="890"/>
                    </a:lnTo>
                    <a:lnTo>
                      <a:pt x="1675" y="851"/>
                    </a:lnTo>
                    <a:lnTo>
                      <a:pt x="1659" y="814"/>
                    </a:lnTo>
                    <a:lnTo>
                      <a:pt x="1643" y="781"/>
                    </a:lnTo>
                    <a:lnTo>
                      <a:pt x="1628" y="755"/>
                    </a:lnTo>
                    <a:lnTo>
                      <a:pt x="1665" y="747"/>
                    </a:lnTo>
                    <a:lnTo>
                      <a:pt x="1698" y="739"/>
                    </a:lnTo>
                    <a:lnTo>
                      <a:pt x="1728" y="732"/>
                    </a:lnTo>
                    <a:lnTo>
                      <a:pt x="1754" y="726"/>
                    </a:lnTo>
                    <a:lnTo>
                      <a:pt x="1773" y="720"/>
                    </a:lnTo>
                    <a:lnTo>
                      <a:pt x="1789" y="716"/>
                    </a:lnTo>
                    <a:lnTo>
                      <a:pt x="1797" y="714"/>
                    </a:lnTo>
                    <a:lnTo>
                      <a:pt x="1801" y="713"/>
                    </a:lnTo>
                    <a:lnTo>
                      <a:pt x="1610" y="637"/>
                    </a:lnTo>
                    <a:lnTo>
                      <a:pt x="1718" y="178"/>
                    </a:lnTo>
                    <a:lnTo>
                      <a:pt x="235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70480" y="2330640"/>
                <a:ext cx="444600" cy="557640"/>
              </a:xfrm>
              <a:custGeom>
                <a:avLst/>
                <a:gdLst/>
                <a:ahLst/>
                <a:rect l="l" t="t" r="r" b="b"/>
                <a:pathLst>
                  <a:path w="399" h="253">
                    <a:moveTo>
                      <a:pt x="399" y="106"/>
                    </a:moveTo>
                    <a:lnTo>
                      <a:pt x="395" y="103"/>
                    </a:lnTo>
                    <a:lnTo>
                      <a:pt x="387" y="100"/>
                    </a:lnTo>
                    <a:lnTo>
                      <a:pt x="375" y="98"/>
                    </a:lnTo>
                    <a:lnTo>
                      <a:pt x="363" y="97"/>
                    </a:lnTo>
                    <a:lnTo>
                      <a:pt x="359" y="86"/>
                    </a:lnTo>
                    <a:lnTo>
                      <a:pt x="356" y="77"/>
                    </a:lnTo>
                    <a:lnTo>
                      <a:pt x="350" y="67"/>
                    </a:lnTo>
                    <a:lnTo>
                      <a:pt x="342" y="59"/>
                    </a:lnTo>
                    <a:lnTo>
                      <a:pt x="332" y="51"/>
                    </a:lnTo>
                    <a:lnTo>
                      <a:pt x="320" y="43"/>
                    </a:lnTo>
                    <a:lnTo>
                      <a:pt x="308" y="36"/>
                    </a:lnTo>
                    <a:lnTo>
                      <a:pt x="295" y="30"/>
                    </a:lnTo>
                    <a:lnTo>
                      <a:pt x="336" y="0"/>
                    </a:lnTo>
                    <a:lnTo>
                      <a:pt x="324" y="0"/>
                    </a:lnTo>
                    <a:lnTo>
                      <a:pt x="291" y="1"/>
                    </a:lnTo>
                    <a:lnTo>
                      <a:pt x="243" y="3"/>
                    </a:lnTo>
                    <a:lnTo>
                      <a:pt x="190" y="6"/>
                    </a:lnTo>
                    <a:lnTo>
                      <a:pt x="135" y="9"/>
                    </a:lnTo>
                    <a:lnTo>
                      <a:pt x="88" y="12"/>
                    </a:lnTo>
                    <a:lnTo>
                      <a:pt x="55" y="16"/>
                    </a:lnTo>
                    <a:lnTo>
                      <a:pt x="43" y="21"/>
                    </a:lnTo>
                    <a:lnTo>
                      <a:pt x="45" y="27"/>
                    </a:lnTo>
                    <a:lnTo>
                      <a:pt x="49" y="36"/>
                    </a:lnTo>
                    <a:lnTo>
                      <a:pt x="53" y="45"/>
                    </a:lnTo>
                    <a:lnTo>
                      <a:pt x="57" y="51"/>
                    </a:lnTo>
                    <a:lnTo>
                      <a:pt x="47" y="63"/>
                    </a:lnTo>
                    <a:lnTo>
                      <a:pt x="39" y="77"/>
                    </a:lnTo>
                    <a:lnTo>
                      <a:pt x="33" y="93"/>
                    </a:lnTo>
                    <a:lnTo>
                      <a:pt x="31" y="107"/>
                    </a:lnTo>
                    <a:lnTo>
                      <a:pt x="31" y="108"/>
                    </a:lnTo>
                    <a:lnTo>
                      <a:pt x="31" y="109"/>
                    </a:lnTo>
                    <a:lnTo>
                      <a:pt x="31" y="111"/>
                    </a:lnTo>
                    <a:lnTo>
                      <a:pt x="31" y="112"/>
                    </a:lnTo>
                    <a:lnTo>
                      <a:pt x="17" y="115"/>
                    </a:lnTo>
                    <a:lnTo>
                      <a:pt x="6" y="119"/>
                    </a:lnTo>
                    <a:lnTo>
                      <a:pt x="0" y="122"/>
                    </a:lnTo>
                    <a:lnTo>
                      <a:pt x="4" y="125"/>
                    </a:lnTo>
                    <a:lnTo>
                      <a:pt x="12" y="127"/>
                    </a:lnTo>
                    <a:lnTo>
                      <a:pt x="21" y="129"/>
                    </a:lnTo>
                    <a:lnTo>
                      <a:pt x="29" y="130"/>
                    </a:lnTo>
                    <a:lnTo>
                      <a:pt x="35" y="130"/>
                    </a:lnTo>
                    <a:lnTo>
                      <a:pt x="41" y="142"/>
                    </a:lnTo>
                    <a:lnTo>
                      <a:pt x="49" y="154"/>
                    </a:lnTo>
                    <a:lnTo>
                      <a:pt x="59" y="164"/>
                    </a:lnTo>
                    <a:lnTo>
                      <a:pt x="69" y="175"/>
                    </a:lnTo>
                    <a:lnTo>
                      <a:pt x="80" y="184"/>
                    </a:lnTo>
                    <a:lnTo>
                      <a:pt x="96" y="192"/>
                    </a:lnTo>
                    <a:lnTo>
                      <a:pt x="110" y="201"/>
                    </a:lnTo>
                    <a:lnTo>
                      <a:pt x="128" y="207"/>
                    </a:lnTo>
                    <a:lnTo>
                      <a:pt x="139" y="240"/>
                    </a:lnTo>
                    <a:lnTo>
                      <a:pt x="222" y="253"/>
                    </a:lnTo>
                    <a:lnTo>
                      <a:pt x="295" y="231"/>
                    </a:lnTo>
                    <a:lnTo>
                      <a:pt x="293" y="201"/>
                    </a:lnTo>
                    <a:lnTo>
                      <a:pt x="308" y="193"/>
                    </a:lnTo>
                    <a:lnTo>
                      <a:pt x="320" y="185"/>
                    </a:lnTo>
                    <a:lnTo>
                      <a:pt x="332" y="176"/>
                    </a:lnTo>
                    <a:lnTo>
                      <a:pt x="342" y="165"/>
                    </a:lnTo>
                    <a:lnTo>
                      <a:pt x="350" y="155"/>
                    </a:lnTo>
                    <a:lnTo>
                      <a:pt x="356" y="143"/>
                    </a:lnTo>
                    <a:lnTo>
                      <a:pt x="359" y="132"/>
                    </a:lnTo>
                    <a:lnTo>
                      <a:pt x="363" y="119"/>
                    </a:lnTo>
                    <a:lnTo>
                      <a:pt x="375" y="116"/>
                    </a:lnTo>
                    <a:lnTo>
                      <a:pt x="387" y="113"/>
                    </a:lnTo>
                    <a:lnTo>
                      <a:pt x="395" y="109"/>
                    </a:lnTo>
                    <a:lnTo>
                      <a:pt x="39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11680" y="2531880"/>
                <a:ext cx="91440" cy="9432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55" y="0"/>
                    </a:moveTo>
                    <a:lnTo>
                      <a:pt x="2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4" y="29"/>
                    </a:lnTo>
                    <a:lnTo>
                      <a:pt x="12" y="36"/>
                    </a:lnTo>
                    <a:lnTo>
                      <a:pt x="26" y="41"/>
                    </a:lnTo>
                    <a:lnTo>
                      <a:pt x="41" y="43"/>
                    </a:lnTo>
                    <a:lnTo>
                      <a:pt x="57" y="41"/>
                    </a:lnTo>
                    <a:lnTo>
                      <a:pt x="71" y="36"/>
                    </a:lnTo>
                    <a:lnTo>
                      <a:pt x="79" y="29"/>
                    </a:lnTo>
                    <a:lnTo>
                      <a:pt x="83" y="21"/>
                    </a:lnTo>
                    <a:lnTo>
                      <a:pt x="81" y="13"/>
                    </a:lnTo>
                    <a:lnTo>
                      <a:pt x="75" y="8"/>
                    </a:lnTo>
                    <a:lnTo>
                      <a:pt x="67" y="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84240" y="2553840"/>
                <a:ext cx="88920" cy="831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14" y="0"/>
                    </a:moveTo>
                    <a:lnTo>
                      <a:pt x="8" y="3"/>
                    </a:lnTo>
                    <a:lnTo>
                      <a:pt x="4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12" y="32"/>
                    </a:lnTo>
                    <a:lnTo>
                      <a:pt x="24" y="36"/>
                    </a:lnTo>
                    <a:lnTo>
                      <a:pt x="39" y="38"/>
                    </a:lnTo>
                    <a:lnTo>
                      <a:pt x="55" y="36"/>
                    </a:lnTo>
                    <a:lnTo>
                      <a:pt x="69" y="32"/>
                    </a:lnTo>
                    <a:lnTo>
                      <a:pt x="77" y="24"/>
                    </a:lnTo>
                    <a:lnTo>
                      <a:pt x="81" y="16"/>
                    </a:lnTo>
                    <a:lnTo>
                      <a:pt x="81" y="14"/>
                    </a:lnTo>
                    <a:lnTo>
                      <a:pt x="81" y="12"/>
                    </a:lnTo>
                    <a:lnTo>
                      <a:pt x="81" y="10"/>
                    </a:lnTo>
                    <a:lnTo>
                      <a:pt x="79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64880" y="2039760"/>
                <a:ext cx="91440" cy="21384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8" y="97"/>
                    </a:moveTo>
                    <a:lnTo>
                      <a:pt x="11" y="97"/>
                    </a:lnTo>
                    <a:lnTo>
                      <a:pt x="15" y="96"/>
                    </a:lnTo>
                    <a:lnTo>
                      <a:pt x="19" y="95"/>
                    </a:lnTo>
                    <a:lnTo>
                      <a:pt x="21" y="92"/>
                    </a:lnTo>
                    <a:lnTo>
                      <a:pt x="80" y="8"/>
                    </a:lnTo>
                    <a:lnTo>
                      <a:pt x="80" y="6"/>
                    </a:lnTo>
                    <a:lnTo>
                      <a:pt x="80" y="4"/>
                    </a:lnTo>
                    <a:lnTo>
                      <a:pt x="78" y="2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9" y="4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4" y="95"/>
                    </a:lnTo>
                    <a:lnTo>
                      <a:pt x="8" y="97"/>
                    </a:lnTo>
                    <a:lnTo>
                      <a:pt x="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93600" y="2022480"/>
                <a:ext cx="46440" cy="220320"/>
              </a:xfrm>
              <a:custGeom>
                <a:avLst/>
                <a:gdLst/>
                <a:ahLst/>
                <a:rect l="l" t="t" r="r" b="b"/>
                <a:pathLst>
                  <a:path w="41" h="100">
                    <a:moveTo>
                      <a:pt x="31" y="100"/>
                    </a:moveTo>
                    <a:lnTo>
                      <a:pt x="35" y="99"/>
                    </a:lnTo>
                    <a:lnTo>
                      <a:pt x="39" y="98"/>
                    </a:lnTo>
                    <a:lnTo>
                      <a:pt x="41" y="96"/>
                    </a:lnTo>
                    <a:lnTo>
                      <a:pt x="41" y="94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8" y="95"/>
                    </a:lnTo>
                    <a:lnTo>
                      <a:pt x="19" y="97"/>
                    </a:lnTo>
                    <a:lnTo>
                      <a:pt x="23" y="99"/>
                    </a:lnTo>
                    <a:lnTo>
                      <a:pt x="27" y="100"/>
                    </a:lnTo>
                    <a:lnTo>
                      <a:pt x="31" y="100"/>
                    </a:lnTo>
                    <a:lnTo>
                      <a:pt x="3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61840" y="2070720"/>
                <a:ext cx="128880" cy="19188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110" y="86"/>
                    </a:moveTo>
                    <a:lnTo>
                      <a:pt x="114" y="84"/>
                    </a:lnTo>
                    <a:lnTo>
                      <a:pt x="116" y="82"/>
                    </a:lnTo>
                    <a:lnTo>
                      <a:pt x="116" y="78"/>
                    </a:lnTo>
                    <a:lnTo>
                      <a:pt x="114" y="76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94" y="84"/>
                    </a:lnTo>
                    <a:lnTo>
                      <a:pt x="98" y="86"/>
                    </a:lnTo>
                    <a:lnTo>
                      <a:pt x="102" y="86"/>
                    </a:lnTo>
                    <a:lnTo>
                      <a:pt x="106" y="87"/>
                    </a:lnTo>
                    <a:lnTo>
                      <a:pt x="110" y="86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2720" y="2860200"/>
                <a:ext cx="835560" cy="1130760"/>
              </a:xfrm>
              <a:custGeom>
                <a:avLst/>
                <a:gdLst/>
                <a:ahLst/>
                <a:rect l="l" t="t" r="r" b="b"/>
                <a:pathLst>
                  <a:path w="747" h="513">
                    <a:moveTo>
                      <a:pt x="741" y="134"/>
                    </a:moveTo>
                    <a:lnTo>
                      <a:pt x="675" y="115"/>
                    </a:lnTo>
                    <a:lnTo>
                      <a:pt x="737" y="78"/>
                    </a:lnTo>
                    <a:lnTo>
                      <a:pt x="739" y="76"/>
                    </a:lnTo>
                    <a:lnTo>
                      <a:pt x="741" y="74"/>
                    </a:lnTo>
                    <a:lnTo>
                      <a:pt x="741" y="73"/>
                    </a:lnTo>
                    <a:lnTo>
                      <a:pt x="739" y="71"/>
                    </a:lnTo>
                    <a:lnTo>
                      <a:pt x="688" y="4"/>
                    </a:lnTo>
                    <a:lnTo>
                      <a:pt x="684" y="2"/>
                    </a:lnTo>
                    <a:lnTo>
                      <a:pt x="680" y="1"/>
                    </a:lnTo>
                    <a:lnTo>
                      <a:pt x="675" y="0"/>
                    </a:lnTo>
                    <a:lnTo>
                      <a:pt x="671" y="1"/>
                    </a:lnTo>
                    <a:lnTo>
                      <a:pt x="665" y="2"/>
                    </a:lnTo>
                    <a:lnTo>
                      <a:pt x="663" y="4"/>
                    </a:lnTo>
                    <a:lnTo>
                      <a:pt x="661" y="7"/>
                    </a:lnTo>
                    <a:lnTo>
                      <a:pt x="663" y="10"/>
                    </a:lnTo>
                    <a:lnTo>
                      <a:pt x="712" y="72"/>
                    </a:lnTo>
                    <a:lnTo>
                      <a:pt x="643" y="113"/>
                    </a:lnTo>
                    <a:lnTo>
                      <a:pt x="641" y="114"/>
                    </a:lnTo>
                    <a:lnTo>
                      <a:pt x="639" y="115"/>
                    </a:lnTo>
                    <a:lnTo>
                      <a:pt x="639" y="117"/>
                    </a:lnTo>
                    <a:lnTo>
                      <a:pt x="639" y="118"/>
                    </a:lnTo>
                    <a:lnTo>
                      <a:pt x="639" y="120"/>
                    </a:lnTo>
                    <a:lnTo>
                      <a:pt x="641" y="121"/>
                    </a:lnTo>
                    <a:lnTo>
                      <a:pt x="645" y="123"/>
                    </a:lnTo>
                    <a:lnTo>
                      <a:pt x="647" y="124"/>
                    </a:lnTo>
                    <a:lnTo>
                      <a:pt x="718" y="145"/>
                    </a:lnTo>
                    <a:lnTo>
                      <a:pt x="472" y="490"/>
                    </a:lnTo>
                    <a:lnTo>
                      <a:pt x="53" y="188"/>
                    </a:lnTo>
                    <a:lnTo>
                      <a:pt x="112" y="147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4" y="140"/>
                    </a:lnTo>
                    <a:lnTo>
                      <a:pt x="114" y="139"/>
                    </a:lnTo>
                    <a:lnTo>
                      <a:pt x="112" y="137"/>
                    </a:lnTo>
                    <a:lnTo>
                      <a:pt x="110" y="136"/>
                    </a:lnTo>
                    <a:lnTo>
                      <a:pt x="109" y="135"/>
                    </a:lnTo>
                    <a:lnTo>
                      <a:pt x="30" y="115"/>
                    </a:lnTo>
                    <a:lnTo>
                      <a:pt x="63" y="47"/>
                    </a:lnTo>
                    <a:lnTo>
                      <a:pt x="63" y="44"/>
                    </a:lnTo>
                    <a:lnTo>
                      <a:pt x="61" y="41"/>
                    </a:lnTo>
                    <a:lnTo>
                      <a:pt x="59" y="39"/>
                    </a:lnTo>
                    <a:lnTo>
                      <a:pt x="53" y="37"/>
                    </a:lnTo>
                    <a:lnTo>
                      <a:pt x="48" y="37"/>
                    </a:lnTo>
                    <a:lnTo>
                      <a:pt x="42" y="39"/>
                    </a:lnTo>
                    <a:lnTo>
                      <a:pt x="38" y="40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0" y="117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4" y="124"/>
                    </a:lnTo>
                    <a:lnTo>
                      <a:pt x="6" y="126"/>
                    </a:lnTo>
                    <a:lnTo>
                      <a:pt x="81" y="145"/>
                    </a:lnTo>
                    <a:lnTo>
                      <a:pt x="26" y="183"/>
                    </a:lnTo>
                    <a:lnTo>
                      <a:pt x="24" y="186"/>
                    </a:lnTo>
                    <a:lnTo>
                      <a:pt x="24" y="188"/>
                    </a:lnTo>
                    <a:lnTo>
                      <a:pt x="24" y="190"/>
                    </a:lnTo>
                    <a:lnTo>
                      <a:pt x="26" y="192"/>
                    </a:lnTo>
                    <a:lnTo>
                      <a:pt x="464" y="510"/>
                    </a:lnTo>
                    <a:lnTo>
                      <a:pt x="466" y="511"/>
                    </a:lnTo>
                    <a:lnTo>
                      <a:pt x="470" y="512"/>
                    </a:lnTo>
                    <a:lnTo>
                      <a:pt x="472" y="513"/>
                    </a:lnTo>
                    <a:lnTo>
                      <a:pt x="476" y="513"/>
                    </a:lnTo>
                    <a:lnTo>
                      <a:pt x="480" y="512"/>
                    </a:lnTo>
                    <a:lnTo>
                      <a:pt x="484" y="511"/>
                    </a:lnTo>
                    <a:lnTo>
                      <a:pt x="486" y="509"/>
                    </a:lnTo>
                    <a:lnTo>
                      <a:pt x="488" y="508"/>
                    </a:lnTo>
                    <a:lnTo>
                      <a:pt x="747" y="144"/>
                    </a:lnTo>
                    <a:lnTo>
                      <a:pt x="747" y="140"/>
                    </a:lnTo>
                    <a:lnTo>
                      <a:pt x="747" y="138"/>
                    </a:lnTo>
                    <a:lnTo>
                      <a:pt x="745" y="136"/>
                    </a:lnTo>
                    <a:lnTo>
                      <a:pt x="741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94480" y="412092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0" y="15"/>
                    </a:moveTo>
                    <a:lnTo>
                      <a:pt x="2" y="21"/>
                    </a:lnTo>
                    <a:lnTo>
                      <a:pt x="8" y="25"/>
                    </a:lnTo>
                    <a:lnTo>
                      <a:pt x="15" y="28"/>
                    </a:lnTo>
                    <a:lnTo>
                      <a:pt x="27" y="29"/>
                    </a:lnTo>
                    <a:lnTo>
                      <a:pt x="39" y="28"/>
                    </a:lnTo>
                    <a:lnTo>
                      <a:pt x="47" y="25"/>
                    </a:lnTo>
                    <a:lnTo>
                      <a:pt x="53" y="21"/>
                    </a:lnTo>
                    <a:lnTo>
                      <a:pt x="55" y="15"/>
                    </a:lnTo>
                    <a:lnTo>
                      <a:pt x="53" y="8"/>
                    </a:lnTo>
                    <a:lnTo>
                      <a:pt x="47" y="4"/>
                    </a:lnTo>
                    <a:lnTo>
                      <a:pt x="39" y="1"/>
                    </a:lnTo>
                    <a:lnTo>
                      <a:pt x="27" y="0"/>
                    </a:lnTo>
                    <a:lnTo>
                      <a:pt x="15" y="1"/>
                    </a:lnTo>
                    <a:lnTo>
                      <a:pt x="8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83320" y="433692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0" y="14"/>
                    </a:moveTo>
                    <a:lnTo>
                      <a:pt x="2" y="21"/>
                    </a:lnTo>
                    <a:lnTo>
                      <a:pt x="8" y="25"/>
                    </a:lnTo>
                    <a:lnTo>
                      <a:pt x="18" y="28"/>
                    </a:lnTo>
                    <a:lnTo>
                      <a:pt x="27" y="29"/>
                    </a:lnTo>
                    <a:lnTo>
                      <a:pt x="39" y="28"/>
                    </a:lnTo>
                    <a:lnTo>
                      <a:pt x="47" y="25"/>
                    </a:lnTo>
                    <a:lnTo>
                      <a:pt x="53" y="21"/>
                    </a:lnTo>
                    <a:lnTo>
                      <a:pt x="55" y="14"/>
                    </a:lnTo>
                    <a:lnTo>
                      <a:pt x="53" y="8"/>
                    </a:lnTo>
                    <a:lnTo>
                      <a:pt x="47" y="4"/>
                    </a:lnTo>
                    <a:lnTo>
                      <a:pt x="39" y="1"/>
                    </a:lnTo>
                    <a:lnTo>
                      <a:pt x="27" y="0"/>
                    </a:lnTo>
                    <a:lnTo>
                      <a:pt x="18" y="1"/>
                    </a:lnTo>
                    <a:lnTo>
                      <a:pt x="8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77800" y="996840"/>
              <a:ext cx="1838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w to Inst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00080" y="1224000"/>
            <a:ext cx="33400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ayout of Keys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Entering Keyset Adm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Menu Examp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Button U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 Me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400" y="1159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9240" y="2982960"/>
            <a:ext cx="334008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Pre-programmed Data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tation Base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CO Line Base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ystem Base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Station Group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Installa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2440" y="11592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Practice Exerc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77800" y="797040"/>
            <a:ext cx="8337600" cy="5067000"/>
            <a:chOff x="577800" y="797040"/>
            <a:chExt cx="8337600" cy="5067000"/>
          </a:xfrm>
        </p:grpSpPr>
        <p:sp>
          <p:nvSpPr>
            <p:cNvPr id="366" name=""/>
            <p:cNvSpPr/>
            <p:nvPr/>
          </p:nvSpPr>
          <p:spPr>
            <a:xfrm>
              <a:off x="914400" y="1247760"/>
              <a:ext cx="8001000" cy="32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Insert all boa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2) Power on the system (All switches of MPB are set to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바탕체"/>
                </a:rPr>
                <a:t>‘ON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3) 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sign Nationality (PGM 100 - BTN 1) (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  <a:ea typeface="굴림체"/>
                </a:rPr>
                <a:t>After Assignment, please reset manually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4) Set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 DIP4 of BMBU to ‘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바탕체"/>
                </a:rPr>
                <a:t>OFF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 to preserve the programming data against 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5) Change the numbering plan if needed (PGM 104 ~ 10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19320" y="2238480"/>
              <a:ext cx="2743200" cy="1066680"/>
              <a:chOff x="1219320" y="2238480"/>
              <a:chExt cx="2743200" cy="1066680"/>
            </a:xfrm>
          </p:grpSpPr>
          <p:sp>
            <p:nvSpPr>
              <p:cNvPr id="368" name=""/>
              <p:cNvSpPr/>
              <p:nvPr/>
            </p:nvSpPr>
            <p:spPr>
              <a:xfrm>
                <a:off x="1219320" y="2238480"/>
                <a:ext cx="274320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376440" y="2238480"/>
                <a:ext cx="325440" cy="163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1384200" y="2451240"/>
                <a:ext cx="2476440" cy="753480"/>
                <a:chOff x="1384200" y="2451240"/>
                <a:chExt cx="2476440" cy="753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84200" y="2451240"/>
                  <a:ext cx="2476440" cy="7534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99680" y="2454480"/>
                  <a:ext cx="234792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</a:rPr>
                    <a:t>NATION COD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</a:t>
                  </a: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</a:rPr>
                    <a:t>66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BACK       DELETE      SAV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1225440" y="4797360"/>
              <a:ext cx="2743200" cy="1066680"/>
              <a:chOff x="1225440" y="4797360"/>
              <a:chExt cx="2743200" cy="1066680"/>
            </a:xfrm>
          </p:grpSpPr>
          <p:sp>
            <p:nvSpPr>
              <p:cNvPr id="374" name=""/>
              <p:cNvSpPr/>
              <p:nvPr/>
            </p:nvSpPr>
            <p:spPr>
              <a:xfrm>
                <a:off x="1225440" y="4797360"/>
                <a:ext cx="274320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82560" y="4797360"/>
                <a:ext cx="325440" cy="163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390320" y="5010120"/>
                <a:ext cx="2476440" cy="753480"/>
                <a:chOff x="1390320" y="5010120"/>
                <a:chExt cx="2476440" cy="753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390320" y="5010120"/>
                  <a:ext cx="2476440" cy="75348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405800" y="5013360"/>
                  <a:ext cx="234792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</a:rPr>
                    <a:t>NUMBERING PLAN(1-8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3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BACK       DELETE      SAV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" name=""/>
            <p:cNvSpPr/>
            <p:nvPr/>
          </p:nvSpPr>
          <p:spPr>
            <a:xfrm>
              <a:off x="577800" y="797040"/>
              <a:ext cx="18385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w to Instal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4686480" y="2228760"/>
            <a:ext cx="39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restart, initial values based on current nation code are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080" y="11592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2. Layout of Key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280" y="936720"/>
            <a:ext cx="7993080" cy="4959360"/>
            <a:chOff x="152280" y="936720"/>
            <a:chExt cx="7993080" cy="4959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936720"/>
              <a:ext cx="7993080" cy="49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185600">
              <a:off x="6849720" y="2349360"/>
              <a:ext cx="647640" cy="216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1800">
              <a:off x="4370400" y="5011560"/>
              <a:ext cx="987480" cy="1051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4d4d4d"/>
                  </a:solidFill>
                  <a:latin typeface="Arial"/>
                  <a:ea typeface="Arial Unicode MS"/>
                </a:rPr>
                <a:t>Speaker        Hold/Sa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1800">
              <a:off x="5540400" y="3360240"/>
              <a:ext cx="54288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4d4d4d"/>
                  </a:solidFill>
                  <a:latin typeface="Arial"/>
                  <a:ea typeface="Arial Unicode MS"/>
                </a:rPr>
                <a:t>Trans / Pgm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1800">
              <a:off x="5002200" y="3257640"/>
              <a:ext cx="114480" cy="104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1800">
              <a:off x="4836960" y="3549600"/>
              <a:ext cx="114480" cy="104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1800">
              <a:off x="4701960" y="3882960"/>
              <a:ext cx="6192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1800">
              <a:off x="4537080" y="4176360"/>
              <a:ext cx="9684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1800">
              <a:off x="4086000" y="4061880"/>
              <a:ext cx="9684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1800">
              <a:off x="4254480" y="3735000"/>
              <a:ext cx="9684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1800">
              <a:off x="4422600" y="3408120"/>
              <a:ext cx="9684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1800">
              <a:off x="4572000" y="3090600"/>
              <a:ext cx="9684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1800">
              <a:off x="3650760" y="3922200"/>
              <a:ext cx="9684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1800">
              <a:off x="3812760" y="3588840"/>
              <a:ext cx="9684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1800">
              <a:off x="3981600" y="3261960"/>
              <a:ext cx="9684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1800">
              <a:off x="4130280" y="2972880"/>
              <a:ext cx="9684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1800">
              <a:off x="5108400" y="3598560"/>
              <a:ext cx="2811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4d4d4d"/>
                  </a:solidFill>
                  <a:latin typeface="Arial"/>
                  <a:ea typeface="Arial Unicode MS"/>
                </a:rPr>
                <a:t>Speed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1800">
              <a:off x="5505480" y="3728520"/>
              <a:ext cx="28080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4d4d4d"/>
                  </a:solidFill>
                  <a:latin typeface="Arial"/>
                  <a:ea typeface="Arial Unicode MS"/>
                </a:rPr>
                <a:t>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123200">
              <a:off x="6018120" y="1961640"/>
              <a:ext cx="357120" cy="113040"/>
            </a:xfrm>
            <a:prstGeom prst="parallelogram">
              <a:avLst>
                <a:gd name="adj" fmla="val 22597"/>
              </a:avLst>
            </a:prstGeom>
            <a:solidFill>
              <a:srgbClr val="c8d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510000" y="1503360"/>
            <a:ext cx="1415880" cy="528480"/>
            <a:chOff x="3510000" y="1503360"/>
            <a:chExt cx="1415880" cy="528480"/>
          </a:xfrm>
        </p:grpSpPr>
        <p:sp>
          <p:nvSpPr>
            <p:cNvPr id="80" name=""/>
            <p:cNvSpPr/>
            <p:nvPr/>
          </p:nvSpPr>
          <p:spPr>
            <a:xfrm>
              <a:off x="3510360" y="1503720"/>
              <a:ext cx="570240" cy="52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10000" y="1503360"/>
              <a:ext cx="571680" cy="528480"/>
            </a:xfrm>
            <a:custGeom>
              <a:avLst/>
              <a:gdLst/>
              <a:ahLst/>
              <a:rect l="l" t="t" r="r" b="b"/>
              <a:pathLst>
                <a:path w="2730" h="2727">
                  <a:moveTo>
                    <a:pt x="5" y="3"/>
                  </a:moveTo>
                  <a:lnTo>
                    <a:pt x="3" y="5"/>
                  </a:lnTo>
                  <a:lnTo>
                    <a:pt x="2727" y="5"/>
                  </a:lnTo>
                  <a:lnTo>
                    <a:pt x="2725" y="3"/>
                  </a:lnTo>
                  <a:lnTo>
                    <a:pt x="2725" y="2724"/>
                  </a:lnTo>
                  <a:lnTo>
                    <a:pt x="2727" y="2722"/>
                  </a:lnTo>
                  <a:lnTo>
                    <a:pt x="3" y="2722"/>
                  </a:lnTo>
                  <a:lnTo>
                    <a:pt x="5" y="2724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2724"/>
                  </a:lnTo>
                  <a:lnTo>
                    <a:pt x="0" y="2726"/>
                  </a:lnTo>
                  <a:lnTo>
                    <a:pt x="2" y="2726"/>
                  </a:lnTo>
                  <a:lnTo>
                    <a:pt x="2" y="2727"/>
                  </a:lnTo>
                  <a:lnTo>
                    <a:pt x="2727" y="2727"/>
                  </a:lnTo>
                  <a:lnTo>
                    <a:pt x="2730" y="2724"/>
                  </a:lnTo>
                  <a:lnTo>
                    <a:pt x="2730" y="2"/>
                  </a:lnTo>
                  <a:lnTo>
                    <a:pt x="2729" y="2"/>
                  </a:lnTo>
                  <a:lnTo>
                    <a:pt x="272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8800" y="1530000"/>
              <a:ext cx="513720" cy="474840"/>
            </a:xfrm>
            <a:custGeom>
              <a:avLst/>
              <a:gdLst/>
              <a:ahLst/>
              <a:rect l="l" t="t" r="r" b="b"/>
              <a:pathLst>
                <a:path w="2454" h="2451">
                  <a:moveTo>
                    <a:pt x="5" y="3"/>
                  </a:moveTo>
                  <a:lnTo>
                    <a:pt x="3" y="6"/>
                  </a:lnTo>
                  <a:lnTo>
                    <a:pt x="2452" y="6"/>
                  </a:lnTo>
                  <a:lnTo>
                    <a:pt x="2449" y="3"/>
                  </a:lnTo>
                  <a:lnTo>
                    <a:pt x="2449" y="2449"/>
                  </a:lnTo>
                  <a:lnTo>
                    <a:pt x="2452" y="2446"/>
                  </a:lnTo>
                  <a:lnTo>
                    <a:pt x="3" y="2446"/>
                  </a:lnTo>
                  <a:lnTo>
                    <a:pt x="5" y="2449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2449"/>
                  </a:lnTo>
                  <a:lnTo>
                    <a:pt x="0" y="2450"/>
                  </a:lnTo>
                  <a:lnTo>
                    <a:pt x="1" y="2450"/>
                  </a:lnTo>
                  <a:lnTo>
                    <a:pt x="1" y="2451"/>
                  </a:lnTo>
                  <a:lnTo>
                    <a:pt x="2452" y="2451"/>
                  </a:lnTo>
                  <a:lnTo>
                    <a:pt x="2454" y="2449"/>
                  </a:lnTo>
                  <a:lnTo>
                    <a:pt x="2454" y="2"/>
                  </a:lnTo>
                  <a:lnTo>
                    <a:pt x="2453" y="2"/>
                  </a:lnTo>
                  <a:lnTo>
                    <a:pt x="245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51400" y="1541520"/>
              <a:ext cx="488520" cy="452880"/>
            </a:xfrm>
            <a:custGeom>
              <a:avLst/>
              <a:gdLst/>
              <a:ahLst/>
              <a:rect l="l" t="t" r="r" b="b"/>
              <a:pathLst>
                <a:path w="2336" h="2336">
                  <a:moveTo>
                    <a:pt x="2336" y="0"/>
                  </a:moveTo>
                  <a:lnTo>
                    <a:pt x="2155" y="169"/>
                  </a:lnTo>
                  <a:lnTo>
                    <a:pt x="2164" y="181"/>
                  </a:lnTo>
                  <a:lnTo>
                    <a:pt x="2174" y="203"/>
                  </a:lnTo>
                  <a:lnTo>
                    <a:pt x="2183" y="230"/>
                  </a:lnTo>
                  <a:lnTo>
                    <a:pt x="2186" y="257"/>
                  </a:lnTo>
                  <a:lnTo>
                    <a:pt x="2186" y="2056"/>
                  </a:lnTo>
                  <a:lnTo>
                    <a:pt x="2183" y="2083"/>
                  </a:lnTo>
                  <a:lnTo>
                    <a:pt x="2174" y="2109"/>
                  </a:lnTo>
                  <a:lnTo>
                    <a:pt x="2164" y="2132"/>
                  </a:lnTo>
                  <a:lnTo>
                    <a:pt x="2146" y="2154"/>
                  </a:lnTo>
                  <a:lnTo>
                    <a:pt x="2126" y="2169"/>
                  </a:lnTo>
                  <a:lnTo>
                    <a:pt x="2103" y="2181"/>
                  </a:lnTo>
                  <a:lnTo>
                    <a:pt x="2077" y="2189"/>
                  </a:lnTo>
                  <a:lnTo>
                    <a:pt x="2049" y="2193"/>
                  </a:lnTo>
                  <a:lnTo>
                    <a:pt x="248" y="2193"/>
                  </a:lnTo>
                  <a:lnTo>
                    <a:pt x="222" y="2189"/>
                  </a:lnTo>
                  <a:lnTo>
                    <a:pt x="196" y="2181"/>
                  </a:lnTo>
                  <a:lnTo>
                    <a:pt x="172" y="2169"/>
                  </a:lnTo>
                  <a:lnTo>
                    <a:pt x="0" y="2336"/>
                  </a:lnTo>
                  <a:lnTo>
                    <a:pt x="2336" y="2336"/>
                  </a:lnTo>
                  <a:lnTo>
                    <a:pt x="23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50680" y="1541520"/>
              <a:ext cx="489600" cy="453600"/>
            </a:xfrm>
            <a:custGeom>
              <a:avLst/>
              <a:gdLst/>
              <a:ahLst/>
              <a:rect l="l" t="t" r="r" b="b"/>
              <a:pathLst>
                <a:path w="2341" h="2341">
                  <a:moveTo>
                    <a:pt x="2341" y="2"/>
                  </a:moveTo>
                  <a:lnTo>
                    <a:pt x="2341" y="1"/>
                  </a:lnTo>
                  <a:lnTo>
                    <a:pt x="2340" y="1"/>
                  </a:lnTo>
                  <a:lnTo>
                    <a:pt x="2340" y="0"/>
                  </a:lnTo>
                  <a:lnTo>
                    <a:pt x="2336" y="0"/>
                  </a:lnTo>
                  <a:lnTo>
                    <a:pt x="2155" y="169"/>
                  </a:lnTo>
                  <a:lnTo>
                    <a:pt x="2155" y="173"/>
                  </a:lnTo>
                  <a:lnTo>
                    <a:pt x="2164" y="184"/>
                  </a:lnTo>
                  <a:lnTo>
                    <a:pt x="2164" y="183"/>
                  </a:lnTo>
                  <a:lnTo>
                    <a:pt x="2175" y="205"/>
                  </a:lnTo>
                  <a:lnTo>
                    <a:pt x="2184" y="232"/>
                  </a:lnTo>
                  <a:lnTo>
                    <a:pt x="2186" y="259"/>
                  </a:lnTo>
                  <a:lnTo>
                    <a:pt x="2186" y="2058"/>
                  </a:lnTo>
                  <a:lnTo>
                    <a:pt x="2186" y="2056"/>
                  </a:lnTo>
                  <a:lnTo>
                    <a:pt x="2184" y="2084"/>
                  </a:lnTo>
                  <a:lnTo>
                    <a:pt x="2175" y="2109"/>
                  </a:lnTo>
                  <a:lnTo>
                    <a:pt x="2164" y="2133"/>
                  </a:lnTo>
                  <a:lnTo>
                    <a:pt x="2164" y="2131"/>
                  </a:lnTo>
                  <a:lnTo>
                    <a:pt x="2146" y="2153"/>
                  </a:lnTo>
                  <a:lnTo>
                    <a:pt x="2127" y="2169"/>
                  </a:lnTo>
                  <a:lnTo>
                    <a:pt x="2128" y="2169"/>
                  </a:lnTo>
                  <a:lnTo>
                    <a:pt x="2105" y="2180"/>
                  </a:lnTo>
                  <a:lnTo>
                    <a:pt x="2079" y="2188"/>
                  </a:lnTo>
                  <a:lnTo>
                    <a:pt x="2050" y="2192"/>
                  </a:lnTo>
                  <a:lnTo>
                    <a:pt x="2052" y="2192"/>
                  </a:lnTo>
                  <a:lnTo>
                    <a:pt x="251" y="2192"/>
                  </a:lnTo>
                  <a:lnTo>
                    <a:pt x="225" y="2188"/>
                  </a:lnTo>
                  <a:lnTo>
                    <a:pt x="199" y="2180"/>
                  </a:lnTo>
                  <a:lnTo>
                    <a:pt x="175" y="2169"/>
                  </a:lnTo>
                  <a:lnTo>
                    <a:pt x="172" y="2169"/>
                  </a:lnTo>
                  <a:lnTo>
                    <a:pt x="0" y="2336"/>
                  </a:lnTo>
                  <a:lnTo>
                    <a:pt x="0" y="2339"/>
                  </a:lnTo>
                  <a:lnTo>
                    <a:pt x="1" y="2339"/>
                  </a:lnTo>
                  <a:lnTo>
                    <a:pt x="1" y="2341"/>
                  </a:lnTo>
                  <a:lnTo>
                    <a:pt x="2339" y="2341"/>
                  </a:lnTo>
                  <a:lnTo>
                    <a:pt x="2341" y="2338"/>
                  </a:lnTo>
                  <a:lnTo>
                    <a:pt x="2341" y="2"/>
                  </a:lnTo>
                  <a:lnTo>
                    <a:pt x="2336" y="2"/>
                  </a:lnTo>
                  <a:lnTo>
                    <a:pt x="2336" y="2338"/>
                  </a:lnTo>
                  <a:lnTo>
                    <a:pt x="2339" y="2336"/>
                  </a:lnTo>
                  <a:lnTo>
                    <a:pt x="3" y="2336"/>
                  </a:lnTo>
                  <a:lnTo>
                    <a:pt x="4" y="2339"/>
                  </a:lnTo>
                  <a:lnTo>
                    <a:pt x="176" y="2173"/>
                  </a:lnTo>
                  <a:lnTo>
                    <a:pt x="173" y="2173"/>
                  </a:lnTo>
                  <a:lnTo>
                    <a:pt x="198" y="2184"/>
                  </a:lnTo>
                  <a:lnTo>
                    <a:pt x="198" y="2186"/>
                  </a:lnTo>
                  <a:lnTo>
                    <a:pt x="224" y="2193"/>
                  </a:lnTo>
                  <a:lnTo>
                    <a:pt x="250" y="2197"/>
                  </a:lnTo>
                  <a:lnTo>
                    <a:pt x="2052" y="2197"/>
                  </a:lnTo>
                  <a:lnTo>
                    <a:pt x="2080" y="2193"/>
                  </a:lnTo>
                  <a:lnTo>
                    <a:pt x="2106" y="2186"/>
                  </a:lnTo>
                  <a:lnTo>
                    <a:pt x="2107" y="2184"/>
                  </a:lnTo>
                  <a:lnTo>
                    <a:pt x="2131" y="2173"/>
                  </a:lnTo>
                  <a:lnTo>
                    <a:pt x="2150" y="2157"/>
                  </a:lnTo>
                  <a:lnTo>
                    <a:pt x="2168" y="2135"/>
                  </a:lnTo>
                  <a:lnTo>
                    <a:pt x="2168" y="2134"/>
                  </a:lnTo>
                  <a:lnTo>
                    <a:pt x="2178" y="2111"/>
                  </a:lnTo>
                  <a:lnTo>
                    <a:pt x="2180" y="2111"/>
                  </a:lnTo>
                  <a:lnTo>
                    <a:pt x="2189" y="2085"/>
                  </a:lnTo>
                  <a:lnTo>
                    <a:pt x="2191" y="2058"/>
                  </a:lnTo>
                  <a:lnTo>
                    <a:pt x="2191" y="258"/>
                  </a:lnTo>
                  <a:lnTo>
                    <a:pt x="2189" y="231"/>
                  </a:lnTo>
                  <a:lnTo>
                    <a:pt x="2180" y="204"/>
                  </a:lnTo>
                  <a:lnTo>
                    <a:pt x="2178" y="204"/>
                  </a:lnTo>
                  <a:lnTo>
                    <a:pt x="2168" y="182"/>
                  </a:lnTo>
                  <a:lnTo>
                    <a:pt x="2168" y="181"/>
                  </a:lnTo>
                  <a:lnTo>
                    <a:pt x="2159" y="169"/>
                  </a:lnTo>
                  <a:lnTo>
                    <a:pt x="2159" y="173"/>
                  </a:lnTo>
                  <a:lnTo>
                    <a:pt x="2340" y="3"/>
                  </a:lnTo>
                  <a:lnTo>
                    <a:pt x="2336" y="2"/>
                  </a:lnTo>
                  <a:lnTo>
                    <a:pt x="234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50680" y="1541520"/>
              <a:ext cx="489600" cy="453600"/>
            </a:xfrm>
            <a:custGeom>
              <a:avLst/>
              <a:gdLst/>
              <a:ahLst/>
              <a:rect l="l" t="t" r="r" b="b"/>
              <a:pathLst>
                <a:path w="2341" h="2341">
                  <a:moveTo>
                    <a:pt x="0" y="2338"/>
                  </a:moveTo>
                  <a:lnTo>
                    <a:pt x="0" y="2339"/>
                  </a:lnTo>
                  <a:lnTo>
                    <a:pt x="1" y="2339"/>
                  </a:lnTo>
                  <a:lnTo>
                    <a:pt x="1" y="2341"/>
                  </a:lnTo>
                  <a:lnTo>
                    <a:pt x="3" y="2341"/>
                  </a:lnTo>
                  <a:lnTo>
                    <a:pt x="4" y="2339"/>
                  </a:lnTo>
                  <a:lnTo>
                    <a:pt x="145" y="2205"/>
                  </a:lnTo>
                  <a:lnTo>
                    <a:pt x="176" y="2173"/>
                  </a:lnTo>
                  <a:lnTo>
                    <a:pt x="177" y="2171"/>
                  </a:lnTo>
                  <a:lnTo>
                    <a:pt x="177" y="2170"/>
                  </a:lnTo>
                  <a:lnTo>
                    <a:pt x="176" y="2170"/>
                  </a:lnTo>
                  <a:lnTo>
                    <a:pt x="176" y="2169"/>
                  </a:lnTo>
                  <a:lnTo>
                    <a:pt x="157" y="2153"/>
                  </a:lnTo>
                  <a:lnTo>
                    <a:pt x="140" y="2131"/>
                  </a:lnTo>
                  <a:lnTo>
                    <a:pt x="140" y="2133"/>
                  </a:lnTo>
                  <a:lnTo>
                    <a:pt x="127" y="2109"/>
                  </a:lnTo>
                  <a:lnTo>
                    <a:pt x="128" y="2109"/>
                  </a:lnTo>
                  <a:lnTo>
                    <a:pt x="122" y="2084"/>
                  </a:lnTo>
                  <a:lnTo>
                    <a:pt x="118" y="2056"/>
                  </a:lnTo>
                  <a:lnTo>
                    <a:pt x="118" y="2058"/>
                  </a:lnTo>
                  <a:lnTo>
                    <a:pt x="118" y="259"/>
                  </a:lnTo>
                  <a:lnTo>
                    <a:pt x="122" y="232"/>
                  </a:lnTo>
                  <a:lnTo>
                    <a:pt x="128" y="205"/>
                  </a:lnTo>
                  <a:lnTo>
                    <a:pt x="127" y="206"/>
                  </a:lnTo>
                  <a:lnTo>
                    <a:pt x="140" y="184"/>
                  </a:lnTo>
                  <a:lnTo>
                    <a:pt x="157" y="162"/>
                  </a:lnTo>
                  <a:lnTo>
                    <a:pt x="176" y="147"/>
                  </a:lnTo>
                  <a:lnTo>
                    <a:pt x="175" y="147"/>
                  </a:lnTo>
                  <a:lnTo>
                    <a:pt x="199" y="135"/>
                  </a:lnTo>
                  <a:lnTo>
                    <a:pt x="199" y="137"/>
                  </a:lnTo>
                  <a:lnTo>
                    <a:pt x="225" y="129"/>
                  </a:lnTo>
                  <a:lnTo>
                    <a:pt x="251" y="125"/>
                  </a:lnTo>
                  <a:lnTo>
                    <a:pt x="2052" y="125"/>
                  </a:lnTo>
                  <a:lnTo>
                    <a:pt x="2050" y="125"/>
                  </a:lnTo>
                  <a:lnTo>
                    <a:pt x="2079" y="129"/>
                  </a:lnTo>
                  <a:lnTo>
                    <a:pt x="2105" y="137"/>
                  </a:lnTo>
                  <a:lnTo>
                    <a:pt x="2105" y="135"/>
                  </a:lnTo>
                  <a:lnTo>
                    <a:pt x="2128" y="147"/>
                  </a:lnTo>
                  <a:lnTo>
                    <a:pt x="2127" y="147"/>
                  </a:lnTo>
                  <a:lnTo>
                    <a:pt x="2146" y="162"/>
                  </a:lnTo>
                  <a:lnTo>
                    <a:pt x="2155" y="173"/>
                  </a:lnTo>
                  <a:lnTo>
                    <a:pt x="2157" y="173"/>
                  </a:lnTo>
                  <a:lnTo>
                    <a:pt x="2157" y="174"/>
                  </a:lnTo>
                  <a:lnTo>
                    <a:pt x="2158" y="174"/>
                  </a:lnTo>
                  <a:lnTo>
                    <a:pt x="2159" y="173"/>
                  </a:lnTo>
                  <a:lnTo>
                    <a:pt x="2181" y="152"/>
                  </a:lnTo>
                  <a:lnTo>
                    <a:pt x="2340" y="3"/>
                  </a:lnTo>
                  <a:lnTo>
                    <a:pt x="2341" y="2"/>
                  </a:lnTo>
                  <a:lnTo>
                    <a:pt x="2341" y="1"/>
                  </a:lnTo>
                  <a:lnTo>
                    <a:pt x="2340" y="1"/>
                  </a:lnTo>
                  <a:lnTo>
                    <a:pt x="23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338"/>
                  </a:lnTo>
                  <a:lnTo>
                    <a:pt x="5" y="2338"/>
                  </a:lnTo>
                  <a:lnTo>
                    <a:pt x="5" y="2"/>
                  </a:lnTo>
                  <a:lnTo>
                    <a:pt x="3" y="5"/>
                  </a:lnTo>
                  <a:lnTo>
                    <a:pt x="2339" y="5"/>
                  </a:lnTo>
                  <a:lnTo>
                    <a:pt x="2336" y="0"/>
                  </a:lnTo>
                  <a:lnTo>
                    <a:pt x="2177" y="148"/>
                  </a:lnTo>
                  <a:lnTo>
                    <a:pt x="2155" y="169"/>
                  </a:lnTo>
                  <a:lnTo>
                    <a:pt x="2159" y="169"/>
                  </a:lnTo>
                  <a:lnTo>
                    <a:pt x="2150" y="159"/>
                  </a:lnTo>
                  <a:lnTo>
                    <a:pt x="2131" y="143"/>
                  </a:lnTo>
                  <a:lnTo>
                    <a:pt x="2107" y="131"/>
                  </a:lnTo>
                  <a:lnTo>
                    <a:pt x="2106" y="131"/>
                  </a:lnTo>
                  <a:lnTo>
                    <a:pt x="2080" y="124"/>
                  </a:lnTo>
                  <a:lnTo>
                    <a:pt x="2052" y="120"/>
                  </a:lnTo>
                  <a:lnTo>
                    <a:pt x="250" y="120"/>
                  </a:lnTo>
                  <a:lnTo>
                    <a:pt x="224" y="124"/>
                  </a:lnTo>
                  <a:lnTo>
                    <a:pt x="198" y="131"/>
                  </a:lnTo>
                  <a:lnTo>
                    <a:pt x="173" y="143"/>
                  </a:lnTo>
                  <a:lnTo>
                    <a:pt x="172" y="143"/>
                  </a:lnTo>
                  <a:lnTo>
                    <a:pt x="153" y="159"/>
                  </a:lnTo>
                  <a:lnTo>
                    <a:pt x="136" y="181"/>
                  </a:lnTo>
                  <a:lnTo>
                    <a:pt x="136" y="182"/>
                  </a:lnTo>
                  <a:lnTo>
                    <a:pt x="123" y="204"/>
                  </a:lnTo>
                  <a:lnTo>
                    <a:pt x="116" y="231"/>
                  </a:lnTo>
                  <a:lnTo>
                    <a:pt x="113" y="258"/>
                  </a:lnTo>
                  <a:lnTo>
                    <a:pt x="113" y="2058"/>
                  </a:lnTo>
                  <a:lnTo>
                    <a:pt x="116" y="2085"/>
                  </a:lnTo>
                  <a:lnTo>
                    <a:pt x="123" y="2111"/>
                  </a:lnTo>
                  <a:lnTo>
                    <a:pt x="123" y="2112"/>
                  </a:lnTo>
                  <a:lnTo>
                    <a:pt x="136" y="2135"/>
                  </a:lnTo>
                  <a:lnTo>
                    <a:pt x="153" y="2157"/>
                  </a:lnTo>
                  <a:lnTo>
                    <a:pt x="172" y="2173"/>
                  </a:lnTo>
                  <a:lnTo>
                    <a:pt x="172" y="2169"/>
                  </a:lnTo>
                  <a:lnTo>
                    <a:pt x="141" y="2201"/>
                  </a:lnTo>
                  <a:lnTo>
                    <a:pt x="0" y="2336"/>
                  </a:lnTo>
                  <a:lnTo>
                    <a:pt x="5" y="2338"/>
                  </a:lnTo>
                  <a:lnTo>
                    <a:pt x="0" y="2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4080" y="1564920"/>
              <a:ext cx="435240" cy="402120"/>
            </a:xfrm>
            <a:custGeom>
              <a:avLst/>
              <a:gdLst/>
              <a:ahLst/>
              <a:rect l="l" t="t" r="r" b="b"/>
              <a:pathLst>
                <a:path w="2078" h="2077">
                  <a:moveTo>
                    <a:pt x="138" y="5"/>
                  </a:moveTo>
                  <a:lnTo>
                    <a:pt x="1939" y="5"/>
                  </a:lnTo>
                  <a:lnTo>
                    <a:pt x="1937" y="5"/>
                  </a:lnTo>
                  <a:lnTo>
                    <a:pt x="1966" y="9"/>
                  </a:lnTo>
                  <a:lnTo>
                    <a:pt x="1992" y="17"/>
                  </a:lnTo>
                  <a:lnTo>
                    <a:pt x="1992" y="15"/>
                  </a:lnTo>
                  <a:lnTo>
                    <a:pt x="2015" y="27"/>
                  </a:lnTo>
                  <a:lnTo>
                    <a:pt x="2014" y="27"/>
                  </a:lnTo>
                  <a:lnTo>
                    <a:pt x="2033" y="42"/>
                  </a:lnTo>
                  <a:lnTo>
                    <a:pt x="2045" y="53"/>
                  </a:lnTo>
                  <a:lnTo>
                    <a:pt x="2051" y="64"/>
                  </a:lnTo>
                  <a:lnTo>
                    <a:pt x="2051" y="63"/>
                  </a:lnTo>
                  <a:lnTo>
                    <a:pt x="2062" y="85"/>
                  </a:lnTo>
                  <a:lnTo>
                    <a:pt x="2071" y="112"/>
                  </a:lnTo>
                  <a:lnTo>
                    <a:pt x="2073" y="139"/>
                  </a:lnTo>
                  <a:lnTo>
                    <a:pt x="2073" y="1938"/>
                  </a:lnTo>
                  <a:lnTo>
                    <a:pt x="2073" y="1936"/>
                  </a:lnTo>
                  <a:lnTo>
                    <a:pt x="2071" y="1964"/>
                  </a:lnTo>
                  <a:lnTo>
                    <a:pt x="2062" y="1989"/>
                  </a:lnTo>
                  <a:lnTo>
                    <a:pt x="2051" y="2013"/>
                  </a:lnTo>
                  <a:lnTo>
                    <a:pt x="2051" y="2011"/>
                  </a:lnTo>
                  <a:lnTo>
                    <a:pt x="2033" y="2033"/>
                  </a:lnTo>
                  <a:lnTo>
                    <a:pt x="2014" y="2049"/>
                  </a:lnTo>
                  <a:lnTo>
                    <a:pt x="2015" y="2049"/>
                  </a:lnTo>
                  <a:lnTo>
                    <a:pt x="1992" y="2060"/>
                  </a:lnTo>
                  <a:lnTo>
                    <a:pt x="1966" y="2068"/>
                  </a:lnTo>
                  <a:lnTo>
                    <a:pt x="1937" y="2072"/>
                  </a:lnTo>
                  <a:lnTo>
                    <a:pt x="1939" y="2072"/>
                  </a:lnTo>
                  <a:lnTo>
                    <a:pt x="138" y="2072"/>
                  </a:lnTo>
                  <a:lnTo>
                    <a:pt x="112" y="2068"/>
                  </a:lnTo>
                  <a:lnTo>
                    <a:pt x="86" y="2060"/>
                  </a:lnTo>
                  <a:lnTo>
                    <a:pt x="62" y="2049"/>
                  </a:lnTo>
                  <a:lnTo>
                    <a:pt x="63" y="2049"/>
                  </a:lnTo>
                  <a:lnTo>
                    <a:pt x="44" y="2033"/>
                  </a:lnTo>
                  <a:lnTo>
                    <a:pt x="27" y="2011"/>
                  </a:lnTo>
                  <a:lnTo>
                    <a:pt x="27" y="2013"/>
                  </a:lnTo>
                  <a:lnTo>
                    <a:pt x="14" y="1989"/>
                  </a:lnTo>
                  <a:lnTo>
                    <a:pt x="15" y="1989"/>
                  </a:lnTo>
                  <a:lnTo>
                    <a:pt x="9" y="1964"/>
                  </a:lnTo>
                  <a:lnTo>
                    <a:pt x="5" y="1936"/>
                  </a:lnTo>
                  <a:lnTo>
                    <a:pt x="5" y="1938"/>
                  </a:lnTo>
                  <a:lnTo>
                    <a:pt x="5" y="139"/>
                  </a:lnTo>
                  <a:lnTo>
                    <a:pt x="9" y="112"/>
                  </a:lnTo>
                  <a:lnTo>
                    <a:pt x="15" y="85"/>
                  </a:lnTo>
                  <a:lnTo>
                    <a:pt x="14" y="86"/>
                  </a:lnTo>
                  <a:lnTo>
                    <a:pt x="27" y="64"/>
                  </a:lnTo>
                  <a:lnTo>
                    <a:pt x="44" y="42"/>
                  </a:lnTo>
                  <a:lnTo>
                    <a:pt x="63" y="27"/>
                  </a:lnTo>
                  <a:lnTo>
                    <a:pt x="62" y="27"/>
                  </a:lnTo>
                  <a:lnTo>
                    <a:pt x="86" y="15"/>
                  </a:lnTo>
                  <a:lnTo>
                    <a:pt x="86" y="17"/>
                  </a:lnTo>
                  <a:lnTo>
                    <a:pt x="112" y="9"/>
                  </a:lnTo>
                  <a:lnTo>
                    <a:pt x="138" y="5"/>
                  </a:lnTo>
                  <a:lnTo>
                    <a:pt x="137" y="0"/>
                  </a:lnTo>
                  <a:lnTo>
                    <a:pt x="111" y="4"/>
                  </a:lnTo>
                  <a:lnTo>
                    <a:pt x="85" y="11"/>
                  </a:lnTo>
                  <a:lnTo>
                    <a:pt x="60" y="23"/>
                  </a:lnTo>
                  <a:lnTo>
                    <a:pt x="59" y="23"/>
                  </a:lnTo>
                  <a:lnTo>
                    <a:pt x="40" y="39"/>
                  </a:lnTo>
                  <a:lnTo>
                    <a:pt x="23" y="61"/>
                  </a:lnTo>
                  <a:lnTo>
                    <a:pt x="23" y="62"/>
                  </a:lnTo>
                  <a:lnTo>
                    <a:pt x="10" y="84"/>
                  </a:lnTo>
                  <a:lnTo>
                    <a:pt x="3" y="111"/>
                  </a:lnTo>
                  <a:lnTo>
                    <a:pt x="0" y="138"/>
                  </a:lnTo>
                  <a:lnTo>
                    <a:pt x="0" y="1938"/>
                  </a:lnTo>
                  <a:lnTo>
                    <a:pt x="3" y="1965"/>
                  </a:lnTo>
                  <a:lnTo>
                    <a:pt x="10" y="1991"/>
                  </a:lnTo>
                  <a:lnTo>
                    <a:pt x="10" y="1992"/>
                  </a:lnTo>
                  <a:lnTo>
                    <a:pt x="23" y="2015"/>
                  </a:lnTo>
                  <a:lnTo>
                    <a:pt x="40" y="2037"/>
                  </a:lnTo>
                  <a:lnTo>
                    <a:pt x="59" y="2053"/>
                  </a:lnTo>
                  <a:lnTo>
                    <a:pt x="60" y="2053"/>
                  </a:lnTo>
                  <a:lnTo>
                    <a:pt x="85" y="2064"/>
                  </a:lnTo>
                  <a:lnTo>
                    <a:pt x="85" y="2066"/>
                  </a:lnTo>
                  <a:lnTo>
                    <a:pt x="111" y="2073"/>
                  </a:lnTo>
                  <a:lnTo>
                    <a:pt x="137" y="2077"/>
                  </a:lnTo>
                  <a:lnTo>
                    <a:pt x="1939" y="2077"/>
                  </a:lnTo>
                  <a:lnTo>
                    <a:pt x="1967" y="2073"/>
                  </a:lnTo>
                  <a:lnTo>
                    <a:pt x="1993" y="2066"/>
                  </a:lnTo>
                  <a:lnTo>
                    <a:pt x="1994" y="2064"/>
                  </a:lnTo>
                  <a:lnTo>
                    <a:pt x="2018" y="2053"/>
                  </a:lnTo>
                  <a:lnTo>
                    <a:pt x="2037" y="2037"/>
                  </a:lnTo>
                  <a:lnTo>
                    <a:pt x="2055" y="2015"/>
                  </a:lnTo>
                  <a:lnTo>
                    <a:pt x="2055" y="2014"/>
                  </a:lnTo>
                  <a:lnTo>
                    <a:pt x="2065" y="1991"/>
                  </a:lnTo>
                  <a:lnTo>
                    <a:pt x="2067" y="1991"/>
                  </a:lnTo>
                  <a:lnTo>
                    <a:pt x="2076" y="1965"/>
                  </a:lnTo>
                  <a:lnTo>
                    <a:pt x="2078" y="1938"/>
                  </a:lnTo>
                  <a:lnTo>
                    <a:pt x="2078" y="138"/>
                  </a:lnTo>
                  <a:lnTo>
                    <a:pt x="2076" y="111"/>
                  </a:lnTo>
                  <a:lnTo>
                    <a:pt x="2067" y="84"/>
                  </a:lnTo>
                  <a:lnTo>
                    <a:pt x="2065" y="84"/>
                  </a:lnTo>
                  <a:lnTo>
                    <a:pt x="2055" y="62"/>
                  </a:lnTo>
                  <a:lnTo>
                    <a:pt x="2049" y="50"/>
                  </a:lnTo>
                  <a:lnTo>
                    <a:pt x="2049" y="49"/>
                  </a:lnTo>
                  <a:lnTo>
                    <a:pt x="2037" y="39"/>
                  </a:lnTo>
                  <a:lnTo>
                    <a:pt x="2018" y="23"/>
                  </a:lnTo>
                  <a:lnTo>
                    <a:pt x="1994" y="11"/>
                  </a:lnTo>
                  <a:lnTo>
                    <a:pt x="1993" y="11"/>
                  </a:lnTo>
                  <a:lnTo>
                    <a:pt x="1967" y="4"/>
                  </a:lnTo>
                  <a:lnTo>
                    <a:pt x="1939" y="0"/>
                  </a:lnTo>
                  <a:lnTo>
                    <a:pt x="137" y="0"/>
                  </a:lnTo>
                  <a:lnTo>
                    <a:pt x="13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80640" y="1663560"/>
              <a:ext cx="220320" cy="200520"/>
            </a:xfrm>
            <a:custGeom>
              <a:avLst/>
              <a:gdLst/>
              <a:ahLst/>
              <a:rect l="l" t="t" r="r" b="b"/>
              <a:pathLst>
                <a:path w="1052" h="1037">
                  <a:moveTo>
                    <a:pt x="124" y="896"/>
                  </a:moveTo>
                  <a:lnTo>
                    <a:pt x="337" y="591"/>
                  </a:lnTo>
                  <a:lnTo>
                    <a:pt x="0" y="490"/>
                  </a:lnTo>
                  <a:lnTo>
                    <a:pt x="77" y="265"/>
                  </a:lnTo>
                  <a:lnTo>
                    <a:pt x="403" y="368"/>
                  </a:lnTo>
                  <a:lnTo>
                    <a:pt x="403" y="0"/>
                  </a:lnTo>
                  <a:lnTo>
                    <a:pt x="647" y="0"/>
                  </a:lnTo>
                  <a:lnTo>
                    <a:pt x="647" y="368"/>
                  </a:lnTo>
                  <a:lnTo>
                    <a:pt x="972" y="265"/>
                  </a:lnTo>
                  <a:lnTo>
                    <a:pt x="1052" y="490"/>
                  </a:lnTo>
                  <a:lnTo>
                    <a:pt x="716" y="591"/>
                  </a:lnTo>
                  <a:lnTo>
                    <a:pt x="928" y="896"/>
                  </a:lnTo>
                  <a:lnTo>
                    <a:pt x="736" y="1037"/>
                  </a:lnTo>
                  <a:lnTo>
                    <a:pt x="527" y="748"/>
                  </a:lnTo>
                  <a:lnTo>
                    <a:pt x="317" y="1037"/>
                  </a:lnTo>
                  <a:lnTo>
                    <a:pt x="124" y="8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54920" y="1503720"/>
              <a:ext cx="570240" cy="52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54200" y="1503360"/>
              <a:ext cx="571680" cy="528480"/>
            </a:xfrm>
            <a:custGeom>
              <a:avLst/>
              <a:gdLst/>
              <a:ahLst/>
              <a:rect l="l" t="t" r="r" b="b"/>
              <a:pathLst>
                <a:path w="2730" h="2727">
                  <a:moveTo>
                    <a:pt x="5" y="3"/>
                  </a:moveTo>
                  <a:lnTo>
                    <a:pt x="3" y="5"/>
                  </a:lnTo>
                  <a:lnTo>
                    <a:pt x="2727" y="5"/>
                  </a:lnTo>
                  <a:lnTo>
                    <a:pt x="2725" y="3"/>
                  </a:lnTo>
                  <a:lnTo>
                    <a:pt x="2725" y="2724"/>
                  </a:lnTo>
                  <a:lnTo>
                    <a:pt x="2727" y="2722"/>
                  </a:lnTo>
                  <a:lnTo>
                    <a:pt x="3" y="2722"/>
                  </a:lnTo>
                  <a:lnTo>
                    <a:pt x="5" y="2724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2724"/>
                  </a:lnTo>
                  <a:lnTo>
                    <a:pt x="0" y="2726"/>
                  </a:lnTo>
                  <a:lnTo>
                    <a:pt x="2" y="2726"/>
                  </a:lnTo>
                  <a:lnTo>
                    <a:pt x="2" y="2727"/>
                  </a:lnTo>
                  <a:lnTo>
                    <a:pt x="2727" y="2727"/>
                  </a:lnTo>
                  <a:lnTo>
                    <a:pt x="2730" y="2724"/>
                  </a:lnTo>
                  <a:lnTo>
                    <a:pt x="2730" y="2"/>
                  </a:lnTo>
                  <a:lnTo>
                    <a:pt x="2729" y="2"/>
                  </a:lnTo>
                  <a:lnTo>
                    <a:pt x="272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83000" y="1530000"/>
              <a:ext cx="513720" cy="474840"/>
            </a:xfrm>
            <a:custGeom>
              <a:avLst/>
              <a:gdLst/>
              <a:ahLst/>
              <a:rect l="l" t="t" r="r" b="b"/>
              <a:pathLst>
                <a:path w="2454" h="2451">
                  <a:moveTo>
                    <a:pt x="5" y="3"/>
                  </a:moveTo>
                  <a:lnTo>
                    <a:pt x="3" y="6"/>
                  </a:lnTo>
                  <a:lnTo>
                    <a:pt x="2452" y="6"/>
                  </a:lnTo>
                  <a:lnTo>
                    <a:pt x="2449" y="3"/>
                  </a:lnTo>
                  <a:lnTo>
                    <a:pt x="2449" y="2449"/>
                  </a:lnTo>
                  <a:lnTo>
                    <a:pt x="2452" y="2446"/>
                  </a:lnTo>
                  <a:lnTo>
                    <a:pt x="3" y="2446"/>
                  </a:lnTo>
                  <a:lnTo>
                    <a:pt x="5" y="2449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2449"/>
                  </a:lnTo>
                  <a:lnTo>
                    <a:pt x="0" y="2450"/>
                  </a:lnTo>
                  <a:lnTo>
                    <a:pt x="1" y="2450"/>
                  </a:lnTo>
                  <a:lnTo>
                    <a:pt x="1" y="2451"/>
                  </a:lnTo>
                  <a:lnTo>
                    <a:pt x="2452" y="2451"/>
                  </a:lnTo>
                  <a:lnTo>
                    <a:pt x="2454" y="2449"/>
                  </a:lnTo>
                  <a:lnTo>
                    <a:pt x="2454" y="2"/>
                  </a:lnTo>
                  <a:lnTo>
                    <a:pt x="2453" y="2"/>
                  </a:lnTo>
                  <a:lnTo>
                    <a:pt x="245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95600" y="1541520"/>
              <a:ext cx="488520" cy="452880"/>
            </a:xfrm>
            <a:custGeom>
              <a:avLst/>
              <a:gdLst/>
              <a:ahLst/>
              <a:rect l="l" t="t" r="r" b="b"/>
              <a:pathLst>
                <a:path w="2336" h="2336">
                  <a:moveTo>
                    <a:pt x="2336" y="0"/>
                  </a:moveTo>
                  <a:lnTo>
                    <a:pt x="2155" y="169"/>
                  </a:lnTo>
                  <a:lnTo>
                    <a:pt x="2164" y="181"/>
                  </a:lnTo>
                  <a:lnTo>
                    <a:pt x="2174" y="203"/>
                  </a:lnTo>
                  <a:lnTo>
                    <a:pt x="2183" y="230"/>
                  </a:lnTo>
                  <a:lnTo>
                    <a:pt x="2186" y="257"/>
                  </a:lnTo>
                  <a:lnTo>
                    <a:pt x="2186" y="2056"/>
                  </a:lnTo>
                  <a:lnTo>
                    <a:pt x="2183" y="2083"/>
                  </a:lnTo>
                  <a:lnTo>
                    <a:pt x="2174" y="2109"/>
                  </a:lnTo>
                  <a:lnTo>
                    <a:pt x="2164" y="2132"/>
                  </a:lnTo>
                  <a:lnTo>
                    <a:pt x="2146" y="2154"/>
                  </a:lnTo>
                  <a:lnTo>
                    <a:pt x="2126" y="2169"/>
                  </a:lnTo>
                  <a:lnTo>
                    <a:pt x="2103" y="2181"/>
                  </a:lnTo>
                  <a:lnTo>
                    <a:pt x="2077" y="2189"/>
                  </a:lnTo>
                  <a:lnTo>
                    <a:pt x="2049" y="2193"/>
                  </a:lnTo>
                  <a:lnTo>
                    <a:pt x="248" y="2193"/>
                  </a:lnTo>
                  <a:lnTo>
                    <a:pt x="222" y="2189"/>
                  </a:lnTo>
                  <a:lnTo>
                    <a:pt x="196" y="2181"/>
                  </a:lnTo>
                  <a:lnTo>
                    <a:pt x="172" y="2169"/>
                  </a:lnTo>
                  <a:lnTo>
                    <a:pt x="0" y="2336"/>
                  </a:lnTo>
                  <a:lnTo>
                    <a:pt x="2336" y="2336"/>
                  </a:lnTo>
                  <a:lnTo>
                    <a:pt x="233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4880" y="1541520"/>
              <a:ext cx="489960" cy="453600"/>
            </a:xfrm>
            <a:custGeom>
              <a:avLst/>
              <a:gdLst/>
              <a:ahLst/>
              <a:rect l="l" t="t" r="r" b="b"/>
              <a:pathLst>
                <a:path w="2341" h="2341">
                  <a:moveTo>
                    <a:pt x="2341" y="2"/>
                  </a:moveTo>
                  <a:lnTo>
                    <a:pt x="2341" y="1"/>
                  </a:lnTo>
                  <a:lnTo>
                    <a:pt x="2340" y="1"/>
                  </a:lnTo>
                  <a:lnTo>
                    <a:pt x="2340" y="0"/>
                  </a:lnTo>
                  <a:lnTo>
                    <a:pt x="2336" y="0"/>
                  </a:lnTo>
                  <a:lnTo>
                    <a:pt x="2155" y="169"/>
                  </a:lnTo>
                  <a:lnTo>
                    <a:pt x="2155" y="173"/>
                  </a:lnTo>
                  <a:lnTo>
                    <a:pt x="2164" y="184"/>
                  </a:lnTo>
                  <a:lnTo>
                    <a:pt x="2164" y="183"/>
                  </a:lnTo>
                  <a:lnTo>
                    <a:pt x="2175" y="205"/>
                  </a:lnTo>
                  <a:lnTo>
                    <a:pt x="2184" y="232"/>
                  </a:lnTo>
                  <a:lnTo>
                    <a:pt x="2186" y="259"/>
                  </a:lnTo>
                  <a:lnTo>
                    <a:pt x="2186" y="2058"/>
                  </a:lnTo>
                  <a:lnTo>
                    <a:pt x="2186" y="2056"/>
                  </a:lnTo>
                  <a:lnTo>
                    <a:pt x="2184" y="2084"/>
                  </a:lnTo>
                  <a:lnTo>
                    <a:pt x="2175" y="2109"/>
                  </a:lnTo>
                  <a:lnTo>
                    <a:pt x="2164" y="2133"/>
                  </a:lnTo>
                  <a:lnTo>
                    <a:pt x="2164" y="2131"/>
                  </a:lnTo>
                  <a:lnTo>
                    <a:pt x="2146" y="2153"/>
                  </a:lnTo>
                  <a:lnTo>
                    <a:pt x="2127" y="2169"/>
                  </a:lnTo>
                  <a:lnTo>
                    <a:pt x="2128" y="2169"/>
                  </a:lnTo>
                  <a:lnTo>
                    <a:pt x="2105" y="2180"/>
                  </a:lnTo>
                  <a:lnTo>
                    <a:pt x="2079" y="2188"/>
                  </a:lnTo>
                  <a:lnTo>
                    <a:pt x="2050" y="2192"/>
                  </a:lnTo>
                  <a:lnTo>
                    <a:pt x="2052" y="2192"/>
                  </a:lnTo>
                  <a:lnTo>
                    <a:pt x="251" y="2192"/>
                  </a:lnTo>
                  <a:lnTo>
                    <a:pt x="225" y="2188"/>
                  </a:lnTo>
                  <a:lnTo>
                    <a:pt x="199" y="2180"/>
                  </a:lnTo>
                  <a:lnTo>
                    <a:pt x="175" y="2169"/>
                  </a:lnTo>
                  <a:lnTo>
                    <a:pt x="172" y="2169"/>
                  </a:lnTo>
                  <a:lnTo>
                    <a:pt x="0" y="2336"/>
                  </a:lnTo>
                  <a:lnTo>
                    <a:pt x="0" y="2339"/>
                  </a:lnTo>
                  <a:lnTo>
                    <a:pt x="1" y="2339"/>
                  </a:lnTo>
                  <a:lnTo>
                    <a:pt x="1" y="2341"/>
                  </a:lnTo>
                  <a:lnTo>
                    <a:pt x="2339" y="2341"/>
                  </a:lnTo>
                  <a:lnTo>
                    <a:pt x="2341" y="2338"/>
                  </a:lnTo>
                  <a:lnTo>
                    <a:pt x="2341" y="2"/>
                  </a:lnTo>
                  <a:lnTo>
                    <a:pt x="2336" y="2"/>
                  </a:lnTo>
                  <a:lnTo>
                    <a:pt x="2336" y="2338"/>
                  </a:lnTo>
                  <a:lnTo>
                    <a:pt x="2339" y="2336"/>
                  </a:lnTo>
                  <a:lnTo>
                    <a:pt x="3" y="2336"/>
                  </a:lnTo>
                  <a:lnTo>
                    <a:pt x="4" y="2339"/>
                  </a:lnTo>
                  <a:lnTo>
                    <a:pt x="176" y="2173"/>
                  </a:lnTo>
                  <a:lnTo>
                    <a:pt x="173" y="2173"/>
                  </a:lnTo>
                  <a:lnTo>
                    <a:pt x="198" y="2184"/>
                  </a:lnTo>
                  <a:lnTo>
                    <a:pt x="198" y="2186"/>
                  </a:lnTo>
                  <a:lnTo>
                    <a:pt x="224" y="2193"/>
                  </a:lnTo>
                  <a:lnTo>
                    <a:pt x="250" y="2197"/>
                  </a:lnTo>
                  <a:lnTo>
                    <a:pt x="2052" y="2197"/>
                  </a:lnTo>
                  <a:lnTo>
                    <a:pt x="2080" y="2193"/>
                  </a:lnTo>
                  <a:lnTo>
                    <a:pt x="2106" y="2186"/>
                  </a:lnTo>
                  <a:lnTo>
                    <a:pt x="2107" y="2184"/>
                  </a:lnTo>
                  <a:lnTo>
                    <a:pt x="2131" y="2173"/>
                  </a:lnTo>
                  <a:lnTo>
                    <a:pt x="2150" y="2157"/>
                  </a:lnTo>
                  <a:lnTo>
                    <a:pt x="2168" y="2135"/>
                  </a:lnTo>
                  <a:lnTo>
                    <a:pt x="2168" y="2134"/>
                  </a:lnTo>
                  <a:lnTo>
                    <a:pt x="2178" y="2111"/>
                  </a:lnTo>
                  <a:lnTo>
                    <a:pt x="2180" y="2111"/>
                  </a:lnTo>
                  <a:lnTo>
                    <a:pt x="2189" y="2085"/>
                  </a:lnTo>
                  <a:lnTo>
                    <a:pt x="2191" y="2058"/>
                  </a:lnTo>
                  <a:lnTo>
                    <a:pt x="2191" y="258"/>
                  </a:lnTo>
                  <a:lnTo>
                    <a:pt x="2189" y="231"/>
                  </a:lnTo>
                  <a:lnTo>
                    <a:pt x="2180" y="204"/>
                  </a:lnTo>
                  <a:lnTo>
                    <a:pt x="2178" y="204"/>
                  </a:lnTo>
                  <a:lnTo>
                    <a:pt x="2168" y="182"/>
                  </a:lnTo>
                  <a:lnTo>
                    <a:pt x="2168" y="181"/>
                  </a:lnTo>
                  <a:lnTo>
                    <a:pt x="2159" y="169"/>
                  </a:lnTo>
                  <a:lnTo>
                    <a:pt x="2159" y="173"/>
                  </a:lnTo>
                  <a:lnTo>
                    <a:pt x="2340" y="3"/>
                  </a:lnTo>
                  <a:lnTo>
                    <a:pt x="2336" y="2"/>
                  </a:lnTo>
                  <a:lnTo>
                    <a:pt x="234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94880" y="1541520"/>
              <a:ext cx="489960" cy="453600"/>
            </a:xfrm>
            <a:custGeom>
              <a:avLst/>
              <a:gdLst/>
              <a:ahLst/>
              <a:rect l="l" t="t" r="r" b="b"/>
              <a:pathLst>
                <a:path w="2341" h="2341">
                  <a:moveTo>
                    <a:pt x="0" y="2338"/>
                  </a:moveTo>
                  <a:lnTo>
                    <a:pt x="0" y="2339"/>
                  </a:lnTo>
                  <a:lnTo>
                    <a:pt x="1" y="2339"/>
                  </a:lnTo>
                  <a:lnTo>
                    <a:pt x="1" y="2341"/>
                  </a:lnTo>
                  <a:lnTo>
                    <a:pt x="3" y="2341"/>
                  </a:lnTo>
                  <a:lnTo>
                    <a:pt x="4" y="2339"/>
                  </a:lnTo>
                  <a:lnTo>
                    <a:pt x="145" y="2205"/>
                  </a:lnTo>
                  <a:lnTo>
                    <a:pt x="176" y="2173"/>
                  </a:lnTo>
                  <a:lnTo>
                    <a:pt x="177" y="2171"/>
                  </a:lnTo>
                  <a:lnTo>
                    <a:pt x="177" y="2170"/>
                  </a:lnTo>
                  <a:lnTo>
                    <a:pt x="176" y="2170"/>
                  </a:lnTo>
                  <a:lnTo>
                    <a:pt x="176" y="2169"/>
                  </a:lnTo>
                  <a:lnTo>
                    <a:pt x="157" y="2153"/>
                  </a:lnTo>
                  <a:lnTo>
                    <a:pt x="140" y="2131"/>
                  </a:lnTo>
                  <a:lnTo>
                    <a:pt x="140" y="2133"/>
                  </a:lnTo>
                  <a:lnTo>
                    <a:pt x="127" y="2109"/>
                  </a:lnTo>
                  <a:lnTo>
                    <a:pt x="128" y="2109"/>
                  </a:lnTo>
                  <a:lnTo>
                    <a:pt x="122" y="2084"/>
                  </a:lnTo>
                  <a:lnTo>
                    <a:pt x="118" y="2056"/>
                  </a:lnTo>
                  <a:lnTo>
                    <a:pt x="118" y="2058"/>
                  </a:lnTo>
                  <a:lnTo>
                    <a:pt x="118" y="259"/>
                  </a:lnTo>
                  <a:lnTo>
                    <a:pt x="122" y="232"/>
                  </a:lnTo>
                  <a:lnTo>
                    <a:pt x="128" y="205"/>
                  </a:lnTo>
                  <a:lnTo>
                    <a:pt x="127" y="206"/>
                  </a:lnTo>
                  <a:lnTo>
                    <a:pt x="140" y="184"/>
                  </a:lnTo>
                  <a:lnTo>
                    <a:pt x="157" y="162"/>
                  </a:lnTo>
                  <a:lnTo>
                    <a:pt x="176" y="147"/>
                  </a:lnTo>
                  <a:lnTo>
                    <a:pt x="175" y="147"/>
                  </a:lnTo>
                  <a:lnTo>
                    <a:pt x="199" y="135"/>
                  </a:lnTo>
                  <a:lnTo>
                    <a:pt x="199" y="137"/>
                  </a:lnTo>
                  <a:lnTo>
                    <a:pt x="225" y="129"/>
                  </a:lnTo>
                  <a:lnTo>
                    <a:pt x="251" y="125"/>
                  </a:lnTo>
                  <a:lnTo>
                    <a:pt x="2052" y="125"/>
                  </a:lnTo>
                  <a:lnTo>
                    <a:pt x="2050" y="125"/>
                  </a:lnTo>
                  <a:lnTo>
                    <a:pt x="2079" y="129"/>
                  </a:lnTo>
                  <a:lnTo>
                    <a:pt x="2105" y="137"/>
                  </a:lnTo>
                  <a:lnTo>
                    <a:pt x="2105" y="135"/>
                  </a:lnTo>
                  <a:lnTo>
                    <a:pt x="2128" y="147"/>
                  </a:lnTo>
                  <a:lnTo>
                    <a:pt x="2127" y="147"/>
                  </a:lnTo>
                  <a:lnTo>
                    <a:pt x="2146" y="162"/>
                  </a:lnTo>
                  <a:lnTo>
                    <a:pt x="2155" y="173"/>
                  </a:lnTo>
                  <a:lnTo>
                    <a:pt x="2157" y="173"/>
                  </a:lnTo>
                  <a:lnTo>
                    <a:pt x="2157" y="174"/>
                  </a:lnTo>
                  <a:lnTo>
                    <a:pt x="2158" y="174"/>
                  </a:lnTo>
                  <a:lnTo>
                    <a:pt x="2159" y="173"/>
                  </a:lnTo>
                  <a:lnTo>
                    <a:pt x="2181" y="152"/>
                  </a:lnTo>
                  <a:lnTo>
                    <a:pt x="2340" y="3"/>
                  </a:lnTo>
                  <a:lnTo>
                    <a:pt x="2341" y="2"/>
                  </a:lnTo>
                  <a:lnTo>
                    <a:pt x="2341" y="1"/>
                  </a:lnTo>
                  <a:lnTo>
                    <a:pt x="2340" y="1"/>
                  </a:lnTo>
                  <a:lnTo>
                    <a:pt x="23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338"/>
                  </a:lnTo>
                  <a:lnTo>
                    <a:pt x="5" y="2338"/>
                  </a:lnTo>
                  <a:lnTo>
                    <a:pt x="5" y="2"/>
                  </a:lnTo>
                  <a:lnTo>
                    <a:pt x="3" y="5"/>
                  </a:lnTo>
                  <a:lnTo>
                    <a:pt x="2339" y="5"/>
                  </a:lnTo>
                  <a:lnTo>
                    <a:pt x="2336" y="0"/>
                  </a:lnTo>
                  <a:lnTo>
                    <a:pt x="2177" y="148"/>
                  </a:lnTo>
                  <a:lnTo>
                    <a:pt x="2155" y="169"/>
                  </a:lnTo>
                  <a:lnTo>
                    <a:pt x="2159" y="169"/>
                  </a:lnTo>
                  <a:lnTo>
                    <a:pt x="2150" y="159"/>
                  </a:lnTo>
                  <a:lnTo>
                    <a:pt x="2131" y="143"/>
                  </a:lnTo>
                  <a:lnTo>
                    <a:pt x="2107" y="131"/>
                  </a:lnTo>
                  <a:lnTo>
                    <a:pt x="2106" y="131"/>
                  </a:lnTo>
                  <a:lnTo>
                    <a:pt x="2080" y="124"/>
                  </a:lnTo>
                  <a:lnTo>
                    <a:pt x="2052" y="120"/>
                  </a:lnTo>
                  <a:lnTo>
                    <a:pt x="250" y="120"/>
                  </a:lnTo>
                  <a:lnTo>
                    <a:pt x="224" y="124"/>
                  </a:lnTo>
                  <a:lnTo>
                    <a:pt x="198" y="131"/>
                  </a:lnTo>
                  <a:lnTo>
                    <a:pt x="173" y="143"/>
                  </a:lnTo>
                  <a:lnTo>
                    <a:pt x="172" y="143"/>
                  </a:lnTo>
                  <a:lnTo>
                    <a:pt x="153" y="159"/>
                  </a:lnTo>
                  <a:lnTo>
                    <a:pt x="136" y="181"/>
                  </a:lnTo>
                  <a:lnTo>
                    <a:pt x="136" y="182"/>
                  </a:lnTo>
                  <a:lnTo>
                    <a:pt x="123" y="204"/>
                  </a:lnTo>
                  <a:lnTo>
                    <a:pt x="116" y="231"/>
                  </a:lnTo>
                  <a:lnTo>
                    <a:pt x="113" y="258"/>
                  </a:lnTo>
                  <a:lnTo>
                    <a:pt x="113" y="2058"/>
                  </a:lnTo>
                  <a:lnTo>
                    <a:pt x="116" y="2085"/>
                  </a:lnTo>
                  <a:lnTo>
                    <a:pt x="123" y="2111"/>
                  </a:lnTo>
                  <a:lnTo>
                    <a:pt x="123" y="2112"/>
                  </a:lnTo>
                  <a:lnTo>
                    <a:pt x="136" y="2135"/>
                  </a:lnTo>
                  <a:lnTo>
                    <a:pt x="153" y="2157"/>
                  </a:lnTo>
                  <a:lnTo>
                    <a:pt x="172" y="2173"/>
                  </a:lnTo>
                  <a:lnTo>
                    <a:pt x="172" y="2169"/>
                  </a:lnTo>
                  <a:lnTo>
                    <a:pt x="141" y="2201"/>
                  </a:lnTo>
                  <a:lnTo>
                    <a:pt x="0" y="2336"/>
                  </a:lnTo>
                  <a:lnTo>
                    <a:pt x="5" y="2338"/>
                  </a:lnTo>
                  <a:lnTo>
                    <a:pt x="0" y="2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18280" y="1564920"/>
              <a:ext cx="435240" cy="402120"/>
            </a:xfrm>
            <a:custGeom>
              <a:avLst/>
              <a:gdLst/>
              <a:ahLst/>
              <a:rect l="l" t="t" r="r" b="b"/>
              <a:pathLst>
                <a:path w="2078" h="2077">
                  <a:moveTo>
                    <a:pt x="138" y="5"/>
                  </a:moveTo>
                  <a:lnTo>
                    <a:pt x="1939" y="5"/>
                  </a:lnTo>
                  <a:lnTo>
                    <a:pt x="1937" y="5"/>
                  </a:lnTo>
                  <a:lnTo>
                    <a:pt x="1966" y="9"/>
                  </a:lnTo>
                  <a:lnTo>
                    <a:pt x="1992" y="17"/>
                  </a:lnTo>
                  <a:lnTo>
                    <a:pt x="1992" y="15"/>
                  </a:lnTo>
                  <a:lnTo>
                    <a:pt x="2015" y="27"/>
                  </a:lnTo>
                  <a:lnTo>
                    <a:pt x="2014" y="27"/>
                  </a:lnTo>
                  <a:lnTo>
                    <a:pt x="2033" y="42"/>
                  </a:lnTo>
                  <a:lnTo>
                    <a:pt x="2045" y="53"/>
                  </a:lnTo>
                  <a:lnTo>
                    <a:pt x="2051" y="64"/>
                  </a:lnTo>
                  <a:lnTo>
                    <a:pt x="2051" y="63"/>
                  </a:lnTo>
                  <a:lnTo>
                    <a:pt x="2062" y="85"/>
                  </a:lnTo>
                  <a:lnTo>
                    <a:pt x="2071" y="112"/>
                  </a:lnTo>
                  <a:lnTo>
                    <a:pt x="2073" y="139"/>
                  </a:lnTo>
                  <a:lnTo>
                    <a:pt x="2073" y="1938"/>
                  </a:lnTo>
                  <a:lnTo>
                    <a:pt x="2073" y="1936"/>
                  </a:lnTo>
                  <a:lnTo>
                    <a:pt x="2071" y="1964"/>
                  </a:lnTo>
                  <a:lnTo>
                    <a:pt x="2062" y="1989"/>
                  </a:lnTo>
                  <a:lnTo>
                    <a:pt x="2051" y="2013"/>
                  </a:lnTo>
                  <a:lnTo>
                    <a:pt x="2051" y="2011"/>
                  </a:lnTo>
                  <a:lnTo>
                    <a:pt x="2033" y="2033"/>
                  </a:lnTo>
                  <a:lnTo>
                    <a:pt x="2014" y="2049"/>
                  </a:lnTo>
                  <a:lnTo>
                    <a:pt x="2015" y="2049"/>
                  </a:lnTo>
                  <a:lnTo>
                    <a:pt x="1992" y="2060"/>
                  </a:lnTo>
                  <a:lnTo>
                    <a:pt x="1966" y="2068"/>
                  </a:lnTo>
                  <a:lnTo>
                    <a:pt x="1937" y="2072"/>
                  </a:lnTo>
                  <a:lnTo>
                    <a:pt x="1939" y="2072"/>
                  </a:lnTo>
                  <a:lnTo>
                    <a:pt x="138" y="2072"/>
                  </a:lnTo>
                  <a:lnTo>
                    <a:pt x="112" y="2068"/>
                  </a:lnTo>
                  <a:lnTo>
                    <a:pt x="86" y="2060"/>
                  </a:lnTo>
                  <a:lnTo>
                    <a:pt x="62" y="2049"/>
                  </a:lnTo>
                  <a:lnTo>
                    <a:pt x="63" y="2049"/>
                  </a:lnTo>
                  <a:lnTo>
                    <a:pt x="44" y="2033"/>
                  </a:lnTo>
                  <a:lnTo>
                    <a:pt x="27" y="2011"/>
                  </a:lnTo>
                  <a:lnTo>
                    <a:pt x="27" y="2013"/>
                  </a:lnTo>
                  <a:lnTo>
                    <a:pt x="14" y="1989"/>
                  </a:lnTo>
                  <a:lnTo>
                    <a:pt x="15" y="1989"/>
                  </a:lnTo>
                  <a:lnTo>
                    <a:pt x="9" y="1964"/>
                  </a:lnTo>
                  <a:lnTo>
                    <a:pt x="5" y="1936"/>
                  </a:lnTo>
                  <a:lnTo>
                    <a:pt x="5" y="1938"/>
                  </a:lnTo>
                  <a:lnTo>
                    <a:pt x="5" y="139"/>
                  </a:lnTo>
                  <a:lnTo>
                    <a:pt x="9" y="112"/>
                  </a:lnTo>
                  <a:lnTo>
                    <a:pt x="15" y="85"/>
                  </a:lnTo>
                  <a:lnTo>
                    <a:pt x="14" y="86"/>
                  </a:lnTo>
                  <a:lnTo>
                    <a:pt x="27" y="64"/>
                  </a:lnTo>
                  <a:lnTo>
                    <a:pt x="44" y="42"/>
                  </a:lnTo>
                  <a:lnTo>
                    <a:pt x="63" y="27"/>
                  </a:lnTo>
                  <a:lnTo>
                    <a:pt x="62" y="27"/>
                  </a:lnTo>
                  <a:lnTo>
                    <a:pt x="86" y="15"/>
                  </a:lnTo>
                  <a:lnTo>
                    <a:pt x="86" y="17"/>
                  </a:lnTo>
                  <a:lnTo>
                    <a:pt x="112" y="9"/>
                  </a:lnTo>
                  <a:lnTo>
                    <a:pt x="138" y="5"/>
                  </a:lnTo>
                  <a:lnTo>
                    <a:pt x="137" y="0"/>
                  </a:lnTo>
                  <a:lnTo>
                    <a:pt x="111" y="4"/>
                  </a:lnTo>
                  <a:lnTo>
                    <a:pt x="85" y="11"/>
                  </a:lnTo>
                  <a:lnTo>
                    <a:pt x="60" y="23"/>
                  </a:lnTo>
                  <a:lnTo>
                    <a:pt x="59" y="23"/>
                  </a:lnTo>
                  <a:lnTo>
                    <a:pt x="40" y="39"/>
                  </a:lnTo>
                  <a:lnTo>
                    <a:pt x="23" y="61"/>
                  </a:lnTo>
                  <a:lnTo>
                    <a:pt x="23" y="62"/>
                  </a:lnTo>
                  <a:lnTo>
                    <a:pt x="10" y="84"/>
                  </a:lnTo>
                  <a:lnTo>
                    <a:pt x="3" y="111"/>
                  </a:lnTo>
                  <a:lnTo>
                    <a:pt x="0" y="138"/>
                  </a:lnTo>
                  <a:lnTo>
                    <a:pt x="0" y="1938"/>
                  </a:lnTo>
                  <a:lnTo>
                    <a:pt x="3" y="1965"/>
                  </a:lnTo>
                  <a:lnTo>
                    <a:pt x="10" y="1991"/>
                  </a:lnTo>
                  <a:lnTo>
                    <a:pt x="10" y="1992"/>
                  </a:lnTo>
                  <a:lnTo>
                    <a:pt x="23" y="2015"/>
                  </a:lnTo>
                  <a:lnTo>
                    <a:pt x="40" y="2037"/>
                  </a:lnTo>
                  <a:lnTo>
                    <a:pt x="59" y="2053"/>
                  </a:lnTo>
                  <a:lnTo>
                    <a:pt x="60" y="2053"/>
                  </a:lnTo>
                  <a:lnTo>
                    <a:pt x="85" y="2064"/>
                  </a:lnTo>
                  <a:lnTo>
                    <a:pt x="85" y="2066"/>
                  </a:lnTo>
                  <a:lnTo>
                    <a:pt x="111" y="2073"/>
                  </a:lnTo>
                  <a:lnTo>
                    <a:pt x="137" y="2077"/>
                  </a:lnTo>
                  <a:lnTo>
                    <a:pt x="1939" y="2077"/>
                  </a:lnTo>
                  <a:lnTo>
                    <a:pt x="1967" y="2073"/>
                  </a:lnTo>
                  <a:lnTo>
                    <a:pt x="1993" y="2066"/>
                  </a:lnTo>
                  <a:lnTo>
                    <a:pt x="1994" y="2064"/>
                  </a:lnTo>
                  <a:lnTo>
                    <a:pt x="2018" y="2053"/>
                  </a:lnTo>
                  <a:lnTo>
                    <a:pt x="2037" y="2037"/>
                  </a:lnTo>
                  <a:lnTo>
                    <a:pt x="2055" y="2015"/>
                  </a:lnTo>
                  <a:lnTo>
                    <a:pt x="2055" y="2014"/>
                  </a:lnTo>
                  <a:lnTo>
                    <a:pt x="2065" y="1991"/>
                  </a:lnTo>
                  <a:lnTo>
                    <a:pt x="2067" y="1991"/>
                  </a:lnTo>
                  <a:lnTo>
                    <a:pt x="2076" y="1965"/>
                  </a:lnTo>
                  <a:lnTo>
                    <a:pt x="2078" y="1938"/>
                  </a:lnTo>
                  <a:lnTo>
                    <a:pt x="2078" y="138"/>
                  </a:lnTo>
                  <a:lnTo>
                    <a:pt x="2076" y="111"/>
                  </a:lnTo>
                  <a:lnTo>
                    <a:pt x="2067" y="84"/>
                  </a:lnTo>
                  <a:lnTo>
                    <a:pt x="2065" y="84"/>
                  </a:lnTo>
                  <a:lnTo>
                    <a:pt x="2055" y="62"/>
                  </a:lnTo>
                  <a:lnTo>
                    <a:pt x="2049" y="50"/>
                  </a:lnTo>
                  <a:lnTo>
                    <a:pt x="2049" y="49"/>
                  </a:lnTo>
                  <a:lnTo>
                    <a:pt x="2037" y="39"/>
                  </a:lnTo>
                  <a:lnTo>
                    <a:pt x="2018" y="23"/>
                  </a:lnTo>
                  <a:lnTo>
                    <a:pt x="1994" y="11"/>
                  </a:lnTo>
                  <a:lnTo>
                    <a:pt x="1993" y="11"/>
                  </a:lnTo>
                  <a:lnTo>
                    <a:pt x="1967" y="4"/>
                  </a:lnTo>
                  <a:lnTo>
                    <a:pt x="1939" y="0"/>
                  </a:lnTo>
                  <a:lnTo>
                    <a:pt x="137" y="0"/>
                  </a:lnTo>
                  <a:lnTo>
                    <a:pt x="13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28080" y="1648800"/>
              <a:ext cx="209520" cy="258120"/>
            </a:xfrm>
            <a:custGeom>
              <a:avLst/>
              <a:gdLst/>
              <a:ahLst/>
              <a:rect l="l" t="t" r="r" b="b"/>
              <a:pathLst>
                <a:path w="1001" h="1334">
                  <a:moveTo>
                    <a:pt x="775" y="663"/>
                  </a:moveTo>
                  <a:lnTo>
                    <a:pt x="757" y="780"/>
                  </a:lnTo>
                  <a:lnTo>
                    <a:pt x="945" y="780"/>
                  </a:lnTo>
                  <a:lnTo>
                    <a:pt x="921" y="945"/>
                  </a:lnTo>
                  <a:lnTo>
                    <a:pt x="733" y="945"/>
                  </a:lnTo>
                  <a:lnTo>
                    <a:pt x="682" y="1334"/>
                  </a:lnTo>
                  <a:lnTo>
                    <a:pt x="497" y="1334"/>
                  </a:lnTo>
                  <a:lnTo>
                    <a:pt x="553" y="945"/>
                  </a:lnTo>
                  <a:lnTo>
                    <a:pt x="366" y="945"/>
                  </a:lnTo>
                  <a:lnTo>
                    <a:pt x="314" y="1334"/>
                  </a:lnTo>
                  <a:lnTo>
                    <a:pt x="134" y="1334"/>
                  </a:lnTo>
                  <a:lnTo>
                    <a:pt x="187" y="945"/>
                  </a:lnTo>
                  <a:lnTo>
                    <a:pt x="0" y="945"/>
                  </a:lnTo>
                  <a:lnTo>
                    <a:pt x="20" y="780"/>
                  </a:lnTo>
                  <a:lnTo>
                    <a:pt x="209" y="780"/>
                  </a:lnTo>
                  <a:lnTo>
                    <a:pt x="227" y="663"/>
                  </a:lnTo>
                  <a:lnTo>
                    <a:pt x="407" y="663"/>
                  </a:lnTo>
                  <a:lnTo>
                    <a:pt x="388" y="780"/>
                  </a:lnTo>
                  <a:lnTo>
                    <a:pt x="577" y="780"/>
                  </a:lnTo>
                  <a:lnTo>
                    <a:pt x="595" y="663"/>
                  </a:lnTo>
                  <a:lnTo>
                    <a:pt x="609" y="544"/>
                  </a:lnTo>
                  <a:lnTo>
                    <a:pt x="422" y="544"/>
                  </a:lnTo>
                  <a:lnTo>
                    <a:pt x="407" y="663"/>
                  </a:lnTo>
                  <a:lnTo>
                    <a:pt x="227" y="663"/>
                  </a:lnTo>
                  <a:lnTo>
                    <a:pt x="243" y="544"/>
                  </a:lnTo>
                  <a:lnTo>
                    <a:pt x="55" y="544"/>
                  </a:lnTo>
                  <a:lnTo>
                    <a:pt x="77" y="378"/>
                  </a:lnTo>
                  <a:lnTo>
                    <a:pt x="264" y="378"/>
                  </a:lnTo>
                  <a:lnTo>
                    <a:pt x="318" y="0"/>
                  </a:lnTo>
                  <a:lnTo>
                    <a:pt x="497" y="0"/>
                  </a:lnTo>
                  <a:lnTo>
                    <a:pt x="444" y="378"/>
                  </a:lnTo>
                  <a:lnTo>
                    <a:pt x="632" y="378"/>
                  </a:lnTo>
                  <a:lnTo>
                    <a:pt x="687" y="0"/>
                  </a:lnTo>
                  <a:lnTo>
                    <a:pt x="867" y="0"/>
                  </a:lnTo>
                  <a:lnTo>
                    <a:pt x="812" y="378"/>
                  </a:lnTo>
                  <a:lnTo>
                    <a:pt x="1001" y="378"/>
                  </a:lnTo>
                  <a:lnTo>
                    <a:pt x="979" y="544"/>
                  </a:lnTo>
                  <a:lnTo>
                    <a:pt x="791" y="544"/>
                  </a:lnTo>
                  <a:lnTo>
                    <a:pt x="775" y="6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0640" y="11592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Entering Keyset Admin (1/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63680" y="1574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4200" y="158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1280" y="1511280"/>
            <a:ext cx="37666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▷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CD Display will s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CD Display will s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▷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ter program number (e.g.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n 100 star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0360" y="1716120"/>
            <a:ext cx="674640" cy="173160"/>
          </a:xfrm>
          <a:prstGeom prst="roundRect">
            <a:avLst>
              <a:gd name="adj" fmla="val 4000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59080" y="1501920"/>
            <a:ext cx="83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37240" y="3213000"/>
            <a:ext cx="834480" cy="387360"/>
            <a:chOff x="2937240" y="3213000"/>
            <a:chExt cx="834480" cy="387360"/>
          </a:xfrm>
        </p:grpSpPr>
        <p:sp>
          <p:nvSpPr>
            <p:cNvPr id="103" name=""/>
            <p:cNvSpPr/>
            <p:nvPr/>
          </p:nvSpPr>
          <p:spPr>
            <a:xfrm>
              <a:off x="3008160" y="3427560"/>
              <a:ext cx="675000" cy="172800"/>
            </a:xfrm>
            <a:prstGeom prst="roundRect">
              <a:avLst>
                <a:gd name="adj" fmla="val 40000"/>
              </a:avLst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37240" y="321300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rans/Pg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86280" y="2238480"/>
            <a:ext cx="2476440" cy="692640"/>
            <a:chOff x="4886280" y="2238480"/>
            <a:chExt cx="2476440" cy="692640"/>
          </a:xfrm>
        </p:grpSpPr>
        <p:sp>
          <p:nvSpPr>
            <p:cNvPr id="106" name=""/>
            <p:cNvSpPr/>
            <p:nvPr/>
          </p:nvSpPr>
          <p:spPr>
            <a:xfrm>
              <a:off x="4886280" y="223848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1760" y="224316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ADMIN PROGRAM STA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81760" y="882720"/>
            <a:ext cx="3484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enter Admin Programm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911840" y="3664080"/>
            <a:ext cx="2476440" cy="692640"/>
            <a:chOff x="4911840" y="3664080"/>
            <a:chExt cx="2476440" cy="692640"/>
          </a:xfrm>
        </p:grpSpPr>
        <p:sp>
          <p:nvSpPr>
            <p:cNvPr id="110" name=""/>
            <p:cNvSpPr/>
            <p:nvPr/>
          </p:nvSpPr>
          <p:spPr>
            <a:xfrm>
              <a:off x="4911840" y="366408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27320" y="366876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NTER PGM NUMB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685880" y="2409840"/>
            <a:ext cx="476280" cy="361800"/>
          </a:xfrm>
          <a:prstGeom prst="rightArrow">
            <a:avLst>
              <a:gd name="adj1" fmla="val 50000"/>
              <a:gd name="adj2" fmla="val 329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82640" y="3825720"/>
            <a:ext cx="476280" cy="362160"/>
          </a:xfrm>
          <a:prstGeom prst="rightArrow">
            <a:avLst>
              <a:gd name="adj1" fmla="val 50000"/>
              <a:gd name="adj2" fmla="val 328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908600" y="5127480"/>
            <a:ext cx="2476440" cy="692640"/>
            <a:chOff x="4908600" y="5127480"/>
            <a:chExt cx="2476440" cy="692640"/>
          </a:xfrm>
        </p:grpSpPr>
        <p:sp>
          <p:nvSpPr>
            <p:cNvPr id="115" name=""/>
            <p:cNvSpPr/>
            <p:nvPr/>
          </p:nvSpPr>
          <p:spPr>
            <a:xfrm>
              <a:off x="4908600" y="512748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24080" y="5132160"/>
              <a:ext cx="2347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OCATION PROGR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ESS FLEX_KEY (1-2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ACK       DELETE      SA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79400" y="5146560"/>
            <a:ext cx="476280" cy="362160"/>
          </a:xfrm>
          <a:prstGeom prst="rightArrow">
            <a:avLst>
              <a:gd name="adj1" fmla="val 50000"/>
              <a:gd name="adj2" fmla="val 328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3920" y="601020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fault values, station 100 can enter admin progra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17720" y="2419200"/>
            <a:ext cx="3263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ation will go to the idle 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8120" y="2390760"/>
            <a:ext cx="523800" cy="476280"/>
            <a:chOff x="3048120" y="2390760"/>
            <a:chExt cx="523800" cy="476280"/>
          </a:xfrm>
        </p:grpSpPr>
        <p:sp>
          <p:nvSpPr>
            <p:cNvPr id="121" name=""/>
            <p:cNvSpPr/>
            <p:nvPr/>
          </p:nvSpPr>
          <p:spPr>
            <a:xfrm>
              <a:off x="3048120" y="2390760"/>
              <a:ext cx="523800" cy="476280"/>
            </a:xfrm>
            <a:prstGeom prst="ellipse">
              <a:avLst/>
            </a:prstGeom>
            <a:solidFill>
              <a:srgbClr val="e6eab4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0840" y="2575800"/>
              <a:ext cx="41400" cy="104040"/>
            </a:xfrm>
            <a:prstGeom prst="rect">
              <a:avLst/>
            </a:prstGeom>
            <a:solidFill>
              <a:srgbClr val="e6eab4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5640" y="2574360"/>
              <a:ext cx="0" cy="1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185640" y="2480760"/>
              <a:ext cx="9072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5640" y="2679840"/>
              <a:ext cx="90720" cy="9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3120" y="2481120"/>
              <a:ext cx="4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3840" y="2774880"/>
              <a:ext cx="4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56920" y="2574360"/>
              <a:ext cx="263520" cy="111600"/>
            </a:xfrm>
            <a:prstGeom prst="leftRightArrow">
              <a:avLst>
                <a:gd name="adj1" fmla="val 50000"/>
                <a:gd name="adj2" fmla="val 47007"/>
              </a:avLst>
            </a:prstGeom>
            <a:solidFill>
              <a:srgbClr val="5c70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0560" y="2482920"/>
              <a:ext cx="0" cy="5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0560" y="2715840"/>
              <a:ext cx="0" cy="5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916720" y="2873520"/>
            <a:ext cx="8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ON/OF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41880" y="2063880"/>
            <a:ext cx="849240" cy="1251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1480" y="2085840"/>
            <a:ext cx="915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0" y="11592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Entering Keyset Admin (2/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2480" y="882720"/>
            <a:ext cx="3327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exit Admin Programm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492800" y="4768920"/>
            <a:ext cx="2492280" cy="692640"/>
            <a:chOff x="4492800" y="4768920"/>
            <a:chExt cx="2492280" cy="692640"/>
          </a:xfrm>
        </p:grpSpPr>
        <p:sp>
          <p:nvSpPr>
            <p:cNvPr id="137" name=""/>
            <p:cNvSpPr/>
            <p:nvPr/>
          </p:nvSpPr>
          <p:spPr>
            <a:xfrm>
              <a:off x="4492800" y="4768920"/>
              <a:ext cx="2476440" cy="685800"/>
            </a:xfrm>
            <a:prstGeom prst="rect">
              <a:avLst/>
            </a:prstGeom>
            <a:solidFill>
              <a:srgbClr val="bcd4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9360" y="4773600"/>
              <a:ext cx="24757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  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STATION 100  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8 AUG 06               02:01 p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ICKUP       CONF      REDI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160" y="1159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Button Usages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98880" y="831960"/>
            <a:ext cx="834480" cy="387360"/>
            <a:chOff x="1298880" y="831960"/>
            <a:chExt cx="834480" cy="387360"/>
          </a:xfrm>
        </p:grpSpPr>
        <p:sp>
          <p:nvSpPr>
            <p:cNvPr id="141" name=""/>
            <p:cNvSpPr/>
            <p:nvPr/>
          </p:nvSpPr>
          <p:spPr>
            <a:xfrm>
              <a:off x="1369800" y="1046520"/>
              <a:ext cx="675000" cy="172800"/>
            </a:xfrm>
            <a:prstGeom prst="roundRect">
              <a:avLst>
                <a:gd name="adj" fmla="val 40000"/>
              </a:avLst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8880" y="83196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rans/Pg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76280" y="2971800"/>
            <a:ext cx="674640" cy="387360"/>
            <a:chOff x="1376280" y="2971800"/>
            <a:chExt cx="674640" cy="387360"/>
          </a:xfrm>
        </p:grpSpPr>
        <p:sp>
          <p:nvSpPr>
            <p:cNvPr id="144" name=""/>
            <p:cNvSpPr/>
            <p:nvPr/>
          </p:nvSpPr>
          <p:spPr>
            <a:xfrm>
              <a:off x="1376280" y="3186000"/>
              <a:ext cx="674640" cy="173160"/>
            </a:xfrm>
            <a:prstGeom prst="roundRect">
              <a:avLst>
                <a:gd name="adj" fmla="val 40000"/>
              </a:avLst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19120" y="29718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Spee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82840" y="3689280"/>
            <a:ext cx="717120" cy="311040"/>
            <a:chOff x="1482840" y="3689280"/>
            <a:chExt cx="717120" cy="311040"/>
          </a:xfrm>
        </p:grpSpPr>
        <p:sp>
          <p:nvSpPr>
            <p:cNvPr id="147" name=""/>
            <p:cNvSpPr/>
            <p:nvPr/>
          </p:nvSpPr>
          <p:spPr>
            <a:xfrm>
              <a:off x="1482840" y="3749400"/>
              <a:ext cx="171360" cy="171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752840" y="3689280"/>
              <a:ext cx="447120" cy="311040"/>
              <a:chOff x="1752840" y="3689280"/>
              <a:chExt cx="447120" cy="31104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840" y="3752640"/>
                <a:ext cx="342720" cy="171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03320" y="3689280"/>
                <a:ext cx="296640" cy="31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76320" y="3759120"/>
                <a:ext cx="144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825840" y="757080"/>
            <a:ext cx="6428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TRANS/PGM] will move you to the start men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3320" y="1430280"/>
            <a:ext cx="5106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D/SAVE] will store the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311120" y="1571760"/>
            <a:ext cx="792000" cy="534960"/>
            <a:chOff x="1311120" y="1571760"/>
            <a:chExt cx="792000" cy="534960"/>
          </a:xfrm>
        </p:grpSpPr>
        <p:sp>
          <p:nvSpPr>
            <p:cNvPr id="155" name=""/>
            <p:cNvSpPr/>
            <p:nvPr/>
          </p:nvSpPr>
          <p:spPr>
            <a:xfrm>
              <a:off x="1552680" y="1571760"/>
              <a:ext cx="27612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1120" y="186048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Hold/Sa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663560" y="168444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6280" y="1743120"/>
              <a:ext cx="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9360" y="1738440"/>
              <a:ext cx="0" cy="2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654200" y="1643040"/>
              <a:ext cx="82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733400" y="1652760"/>
              <a:ext cx="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228680" y="2341440"/>
            <a:ext cx="1009800" cy="246240"/>
            <a:chOff x="1228680" y="2341440"/>
            <a:chExt cx="1009800" cy="246240"/>
          </a:xfrm>
        </p:grpSpPr>
        <p:sp>
          <p:nvSpPr>
            <p:cNvPr id="163" name=""/>
            <p:cNvSpPr/>
            <p:nvPr/>
          </p:nvSpPr>
          <p:spPr>
            <a:xfrm>
              <a:off x="1228680" y="2367000"/>
              <a:ext cx="1009800" cy="1904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0920" y="2341440"/>
              <a:ext cx="67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Volum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9000" y="2436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52800" y="241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32320" y="2131920"/>
            <a:ext cx="723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Up/Dn] is used to scroll the data up and dow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560" y="2881440"/>
            <a:ext cx="5639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ED] is used to delete current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4760" y="3525840"/>
            <a:ext cx="6005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exible buttons are used to select men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4387680"/>
            <a:ext cx="27612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4400" y="4925880"/>
            <a:ext cx="6285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menu is used to go back / delete / sa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BACK] will move you back to the upper ste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4760" y="4221000"/>
            <a:ext cx="54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eric data is entered from keyp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7520" y="5154480"/>
            <a:ext cx="426960" cy="192240"/>
          </a:xfrm>
          <a:prstGeom prst="roundRect">
            <a:avLst>
              <a:gd name="adj" fmla="val 40000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16680" y="4997520"/>
            <a:ext cx="2232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16680" y="5846760"/>
            <a:ext cx="2232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98680" y="1581120"/>
            <a:ext cx="6070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62040" y="552600"/>
            <a:ext cx="6092640" cy="5943600"/>
            <a:chOff x="1562040" y="552600"/>
            <a:chExt cx="6092640" cy="5943600"/>
          </a:xfrm>
        </p:grpSpPr>
        <p:sp>
          <p:nvSpPr>
            <p:cNvPr id="178" name=""/>
            <p:cNvSpPr/>
            <p:nvPr/>
          </p:nvSpPr>
          <p:spPr>
            <a:xfrm>
              <a:off x="3682800" y="2282760"/>
              <a:ext cx="571680" cy="190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6040" y="914400"/>
              <a:ext cx="552600" cy="581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9080" y="730080"/>
              <a:ext cx="208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7800" y="730080"/>
              <a:ext cx="2232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9080" y="968400"/>
              <a:ext cx="208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87800" y="968400"/>
              <a:ext cx="22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62040" y="4997520"/>
              <a:ext cx="205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9080" y="4997520"/>
              <a:ext cx="2088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79960" y="4997520"/>
              <a:ext cx="80784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87800" y="4997520"/>
              <a:ext cx="223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0120" y="4997520"/>
              <a:ext cx="264456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2040" y="5846760"/>
              <a:ext cx="205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9080" y="5846760"/>
              <a:ext cx="2088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9960" y="5846760"/>
              <a:ext cx="80784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7800" y="5846760"/>
              <a:ext cx="2232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10120" y="5846760"/>
              <a:ext cx="2644560" cy="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638360" y="552600"/>
            <a:ext cx="5543280" cy="5943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8360" y="552600"/>
                      <a:ext cx="5543280" cy="594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"/>
          <p:cNvSpPr/>
          <p:nvPr/>
        </p:nvSpPr>
        <p:spPr>
          <a:xfrm>
            <a:off x="82440" y="11592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Program Menu (1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08360" y="914400"/>
            <a:ext cx="1707840" cy="631800"/>
            <a:chOff x="7308360" y="914400"/>
            <a:chExt cx="1707840" cy="631800"/>
          </a:xfrm>
        </p:grpSpPr>
        <p:sp>
          <p:nvSpPr>
            <p:cNvPr id="198" name=""/>
            <p:cNvSpPr/>
            <p:nvPr/>
          </p:nvSpPr>
          <p:spPr>
            <a:xfrm>
              <a:off x="7334280" y="914400"/>
              <a:ext cx="1644480" cy="63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23200" y="1003320"/>
              <a:ext cx="571320" cy="190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08360" y="121464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Needs to be Re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2440" y="11592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Program Menu (2/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9560" y="743040"/>
          <a:ext cx="5915160" cy="55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743040"/>
                    <a:ext cx="591516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828800" y="723960"/>
          <a:ext cx="5486400" cy="57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23960"/>
                    <a:ext cx="548640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2440" y="115920"/>
            <a:ext cx="29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Program Menu (3/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9T16:04:40Z</dcterms:created>
  <dc:creator>Trevor Simpson</dc:creator>
  <dc:description/>
  <dc:language>en-US</dc:language>
  <cp:lastModifiedBy>김완경</cp:lastModifiedBy>
  <cp:lastPrinted>2000-09-17T06:44:08Z</cp:lastPrinted>
  <dcterms:modified xsi:type="dcterms:W3CDTF">2007-03-10T05:56:21Z</dcterms:modified>
  <cp:revision>223</cp:revision>
  <dc:subject/>
  <dc:title>No Slide Title</dc:title>
</cp:coreProperties>
</file>